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C4D-EADE-4C07-9609-CF8EBC38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4284-16AE-4B1F-AF95-6F0D0514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28C-7441-41AA-9473-5D4DF73A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F15-30DB-4C57-B715-0656691A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B741-09CA-4AA9-AEE1-5D972511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8F60-9BB0-4D18-A084-AC7AC1A2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4214-6703-4944-8FD6-33EB7CC5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CB9A-B1E9-4F3E-A6D2-EF825CB3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9A23-41B0-46B9-9002-B2348EAC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065D-3179-4F61-899F-3AFCEE39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8326-515F-4DAA-A9A4-BA1A0495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A7A-3623-4C41-855A-11B9450D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6EA5-3D2D-4C1D-B997-85662870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BA1A-DCD2-47E3-90FC-AE88AEE7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DCBB-195C-47A9-A3F1-ECD9FD79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F07C-D3D4-4A03-AEC9-DEC8AD3A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2F72-E5E8-4180-B1C7-CBA866B7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532-375B-483E-AD7F-FB83B4E8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B93-152A-485F-A370-D331A324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5D5-EC9C-4EA1-8ED4-34B95774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170-63F4-4522-B0B0-B7D80609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59B2-D972-4BCE-BC3E-07D67064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F05-15E7-4DEE-BD6B-8580B531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46E-8FAB-41C9-9727-34AA9D8B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1513-FCCA-4F12-A62D-5134665A8C7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3D78-DF51-4D84-B450-5E737501696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Пешие маршруты эвакуации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6165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3573360"/>
            <a:ext cx="144720" cy="4320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5445000"/>
            <a:ext cx="684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79280" y="765000"/>
            <a:ext cx="8964720" cy="5890320"/>
            <a:chOff x="179280" y="765000"/>
            <a:chExt cx="8964720" cy="5890320"/>
          </a:xfrm>
        </p:grpSpPr>
        <p:sp>
          <p:nvSpPr>
            <p:cNvPr id="164" name=""/>
            <p:cNvSpPr/>
            <p:nvPr/>
          </p:nvSpPr>
          <p:spPr>
            <a:xfrm>
              <a:off x="7667640" y="3779640"/>
              <a:ext cx="144360" cy="2156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80360" y="3276360"/>
              <a:ext cx="144360" cy="3603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79280" y="765000"/>
              <a:ext cx="8964720" cy="5890320"/>
              <a:chOff x="179280" y="765000"/>
              <a:chExt cx="8964720" cy="589032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179280" y="765000"/>
                <a:ext cx="8964720" cy="4997520"/>
                <a:chOff x="179280" y="765000"/>
                <a:chExt cx="8964720" cy="499752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179280" y="765000"/>
                  <a:ext cx="8964720" cy="4997520"/>
                  <a:chOff x="179280" y="765000"/>
                  <a:chExt cx="8964720" cy="499752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H="1">
                    <a:off x="3526920" y="4363560"/>
                    <a:ext cx="144360" cy="215640"/>
                  </a:xfrm>
                  <a:prstGeom prst="line">
                    <a:avLst/>
                  </a:prstGeom>
                  <a:ln w="28440">
                    <a:solidFill>
                      <a:srgbClr val="99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>
                    <a:off x="3166560" y="4652640"/>
                    <a:ext cx="289080" cy="142560"/>
                  </a:xfrm>
                  <a:prstGeom prst="line">
                    <a:avLst/>
                  </a:prstGeom>
                  <a:ln w="28440">
                    <a:solidFill>
                      <a:srgbClr val="99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179280" y="765000"/>
                    <a:ext cx="8964720" cy="4997520"/>
                    <a:chOff x="179280" y="765000"/>
                    <a:chExt cx="8964720" cy="499752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179280" y="765000"/>
                      <a:ext cx="8964720" cy="4997520"/>
                      <a:chOff x="179280" y="765000"/>
                      <a:chExt cx="8964720" cy="499752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179280" y="765000"/>
                        <a:ext cx="8964720" cy="4997520"/>
                        <a:chOff x="179280" y="765000"/>
                        <a:chExt cx="8964720" cy="499752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179280" y="765000"/>
                          <a:ext cx="8964720" cy="4997520"/>
                          <a:chOff x="179280" y="765000"/>
                          <a:chExt cx="8964720" cy="499752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179280" y="765000"/>
                            <a:ext cx="8964720" cy="4997520"/>
                            <a:chOff x="179280" y="765000"/>
                            <a:chExt cx="8964720" cy="499752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179280" y="765000"/>
                              <a:ext cx="8964720" cy="4997520"/>
                              <a:chOff x="179280" y="765000"/>
                              <a:chExt cx="8964720" cy="4997520"/>
                            </a:xfrm>
                          </p:grpSpPr>
                          <p:grpSp>
                            <p:nvGrpSpPr>
                              <p:cNvPr id="177" name=""/>
                              <p:cNvGrpSpPr/>
                              <p:nvPr/>
                            </p:nvGrpSpPr>
                            <p:grpSpPr>
                              <a:xfrm>
                                <a:off x="179280" y="765000"/>
                                <a:ext cx="8964720" cy="4997520"/>
                                <a:chOff x="179280" y="765000"/>
                                <a:chExt cx="8964720" cy="4997520"/>
                              </a:xfrm>
                            </p:grpSpPr>
                            <p:grpSp>
                              <p:nvGrpSpPr>
                                <p:cNvPr id="178" name=""/>
                                <p:cNvGrpSpPr/>
                                <p:nvPr/>
                              </p:nvGrpSpPr>
                              <p:grpSpPr>
                                <a:xfrm>
                                  <a:off x="179280" y="765000"/>
                                  <a:ext cx="8964720" cy="4997520"/>
                                  <a:chOff x="179280" y="765000"/>
                                  <a:chExt cx="8964720" cy="4997520"/>
                                </a:xfrm>
                              </p:grpSpPr>
                              <p:grpSp>
                                <p:nvGrpSpPr>
                                  <p:cNvPr id="1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79280" y="765000"/>
                                    <a:ext cx="8964720" cy="4997520"/>
                                    <a:chOff x="179280" y="765000"/>
                                    <a:chExt cx="8964720" cy="4997520"/>
                                  </a:xfrm>
                                </p:grpSpPr>
                                <p:grpSp>
                                  <p:nvGrpSpPr>
                                    <p:cNvPr id="180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79280" y="765000"/>
                                      <a:ext cx="8964720" cy="4997520"/>
                                      <a:chOff x="179280" y="765000"/>
                                      <a:chExt cx="8964720" cy="4997520"/>
                                    </a:xfrm>
                                  </p:grpSpPr>
                                  <p:grpSp>
                                    <p:nvGrpSpPr>
                                      <p:cNvPr id="181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79280" y="765000"/>
                                        <a:ext cx="8964720" cy="4997520"/>
                                        <a:chOff x="179280" y="765000"/>
                                        <a:chExt cx="8964720" cy="4997520"/>
                                      </a:xfrm>
                                    </p:grpSpPr>
                                    <p:grpSp>
                                      <p:nvGrpSpPr>
                                        <p:cNvPr id="182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79280" y="765000"/>
                                          <a:ext cx="8964720" cy="4997520"/>
                                          <a:chOff x="179280" y="765000"/>
                                          <a:chExt cx="8964720" cy="4997520"/>
                                        </a:xfrm>
                                      </p:grpSpPr>
                                      <p:grpSp>
                                        <p:nvGrpSpPr>
                                          <p:cNvPr id="183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79280" y="765000"/>
                                            <a:ext cx="8964720" cy="4997520"/>
                                            <a:chOff x="179280" y="765000"/>
                                            <a:chExt cx="8964720" cy="4997520"/>
                                          </a:xfrm>
                                        </p:grpSpPr>
                                        <p:grpSp>
                                          <p:nvGrpSpPr>
                                            <p:cNvPr id="184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79280" y="765000"/>
                                              <a:ext cx="8964720" cy="4997520"/>
                                              <a:chOff x="179280" y="765000"/>
                                              <a:chExt cx="8964720" cy="499752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185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179280" y="765000"/>
                                                <a:ext cx="8964720" cy="4997520"/>
                                                <a:chOff x="179280" y="765000"/>
                                                <a:chExt cx="8964720" cy="499752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186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179280" y="765000"/>
                                                  <a:ext cx="8964720" cy="4997520"/>
                                                  <a:chOff x="179280" y="765000"/>
                                                  <a:chExt cx="8964720" cy="499752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187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179280" y="765000"/>
                                                    <a:ext cx="8964720" cy="4997520"/>
                                                    <a:chOff x="179280" y="765000"/>
                                                    <a:chExt cx="8964720" cy="499752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188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179280" y="765000"/>
                                                      <a:ext cx="8964720" cy="4997520"/>
                                                      <a:chOff x="179280" y="765000"/>
                                                      <a:chExt cx="8964720" cy="499752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189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179280" y="765000"/>
                                                        <a:ext cx="8964720" cy="4997520"/>
                                                        <a:chOff x="179280" y="765000"/>
                                                        <a:chExt cx="8964720" cy="499752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190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179280" y="765000"/>
                                                          <a:ext cx="8964720" cy="4997520"/>
                                                          <a:chOff x="179280" y="765000"/>
                                                          <a:chExt cx="8964720" cy="499752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191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179280" y="765000"/>
                                                            <a:ext cx="8964720" cy="4997520"/>
                                                            <a:chOff x="179280" y="765000"/>
                                                            <a:chExt cx="8964720" cy="4997520"/>
                                                          </a:xfrm>
                                                        </p:grpSpPr>
                                                        <p:grpSp>
                                                          <p:nvGrpSpPr>
                                                            <p:cNvPr id="192" name=""/>
                                                            <p:cNvGrpSpPr/>
                                                            <p:nvPr/>
                                                          </p:nvGrpSpPr>
                                                          <p:grpSpPr>
                                                            <a:xfrm>
                                                              <a:off x="179280" y="765000"/>
                                                              <a:ext cx="8964720" cy="4997520"/>
                                                              <a:chOff x="179280" y="765000"/>
                                                              <a:chExt cx="8964720" cy="4997520"/>
                                                            </a:xfrm>
                                                          </p:grpSpPr>
                                                          <p:grpSp>
                                                            <p:nvGrpSpPr>
                                                              <p:cNvPr id="193" name=""/>
                                                              <p:cNvGrpSpPr/>
                                                              <p:nvPr/>
                                                            </p:nvGrpSpPr>
                                                            <p:grpSpPr>
                                                              <a:xfrm>
                                                                <a:off x="179280" y="765000"/>
                                                                <a:ext cx="8964720" cy="4997520"/>
                                                                <a:chOff x="179280" y="765000"/>
                                                                <a:chExt cx="8964720" cy="4997520"/>
                                                              </a:xfrm>
                                                            </p:grpSpPr>
                                                            <p:grpSp>
                                                              <p:nvGrpSpPr>
                                                                <p:cNvPr id="194" name=""/>
                                                                <p:cNvGrpSpPr/>
                                                                <p:nvPr/>
                                                              </p:nvGrpSpPr>
                                                              <p:grpSpPr>
                                                                <a:xfrm>
                                                                  <a:off x="179280" y="765000"/>
                                                                  <a:ext cx="8964720" cy="4997520"/>
                                                                  <a:chOff x="179280" y="765000"/>
                                                                  <a:chExt cx="8964720" cy="4997520"/>
                                                                </a:xfrm>
                                                              </p:grpSpPr>
                                                              <p:grpSp>
                                                                <p:nvGrpSpPr>
                                                                  <p:cNvPr id="195" name=""/>
                                                                  <p:cNvGrpSpPr/>
                                                                  <p:nvPr/>
                                                                </p:nvGrpSpPr>
                                                                <p:grpSpPr>
                                                                  <a:xfrm>
                                                                    <a:off x="179280" y="765000"/>
                                                                    <a:ext cx="8964720" cy="4997520"/>
                                                                    <a:chOff x="179280" y="765000"/>
                                                                    <a:chExt cx="8964720" cy="4997520"/>
                                                                  </a:xfrm>
                                                                </p:grpSpPr>
                                                                <p:grpSp>
                                                                  <p:nvGrpSpPr>
                                                                    <p:cNvPr id="196" name=""/>
                                                                    <p:cNvGrpSpPr/>
                                                                    <p:nvPr/>
                                                                  </p:nvGrpSpPr>
                                                                  <p:grpSpPr>
                                                                    <a:xfrm>
                                                                      <a:off x="179280" y="765000"/>
                                                                      <a:ext cx="8964720" cy="4997520"/>
                                                                      <a:chOff x="179280" y="765000"/>
                                                                      <a:chExt cx="8964720" cy="4997520"/>
                                                                    </a:xfrm>
                                                                  </p:grpSpPr>
                                                                  <p:grpSp>
                                                                    <p:nvGrpSpPr>
                                                                      <p:cNvPr id="197" name=""/>
                                                                      <p:cNvGrpSpPr/>
                                                                      <p:nvPr/>
                                                                    </p:nvGrpSpPr>
                                                                    <p:grpSpPr>
                                                                      <a:xfrm>
                                                                        <a:off x="179280" y="765000"/>
                                                                        <a:ext cx="8964720" cy="4997520"/>
                                                                        <a:chOff x="179280" y="765000"/>
                                                                        <a:chExt cx="8964720" cy="4997520"/>
                                                                      </a:xfrm>
                                                                    </p:grpSpPr>
                                                                    <p:grpSp>
                                                                      <p:nvGrpSpPr>
                                                                        <p:cNvPr id="198" name=""/>
                                                                        <p:cNvGrpSpPr/>
                                                                        <p:nvPr/>
                                                                      </p:nvGrpSpPr>
                                                                      <p:grpSpPr>
                                                                        <a:xfrm>
                                                                          <a:off x="179280" y="765000"/>
                                                                          <a:ext cx="8964720" cy="4997520"/>
                                                                          <a:chOff x="179280" y="765000"/>
                                                                          <a:chExt cx="8964720" cy="4997520"/>
                                                                        </a:xfrm>
                                                                      </p:grpSpPr>
                                                                      <p:grpSp>
                                                                        <p:nvGrpSpPr>
                                                                          <p:cNvPr id="199" name=""/>
                                                                          <p:cNvGrpSpPr/>
                                                                          <p:nvPr/>
                                                                        </p:nvGrpSpPr>
                                                                        <p:grpSpPr>
                                                                          <a:xfrm>
                                                                            <a:off x="179280" y="765000"/>
                                                                            <a:ext cx="8964720" cy="4997520"/>
                                                                            <a:chOff x="179280" y="765000"/>
                                                                            <a:chExt cx="8964720" cy="4997520"/>
                                                                          </a:xfrm>
                                                                        </p:grpSpPr>
                                                                        <p:grpSp>
                                                                          <p:nvGrpSpPr>
                                                                            <p:cNvPr id="200" name=""/>
                                                                            <p:cNvGrpSpPr/>
                                                                            <p:nvPr/>
                                                                          </p:nvGrpSpPr>
                                                                          <p:grpSpPr>
                                                                            <a:xfrm>
                                                                              <a:off x="179280" y="765000"/>
                                                                              <a:ext cx="8498160" cy="4997520"/>
                                                                              <a:chOff x="179280" y="765000"/>
                                                                              <a:chExt cx="8498160" cy="4997520"/>
                                                                            </a:xfrm>
                                                                          </p:grpSpPr>
                                                                          <p:grpSp>
                                                                            <p:nvGrpSpPr>
                                                                              <p:cNvPr id="201" name=""/>
                                                                              <p:cNvGrpSpPr/>
                                                                              <p:nvPr/>
                                                                            </p:nvGrpSpPr>
                                                                            <p:grpSpPr>
                                                                              <a:xfrm>
                                                                                <a:off x="179280" y="765000"/>
                                                                                <a:ext cx="8494200" cy="4997520"/>
                                                                                <a:chOff x="179280" y="765000"/>
                                                                                <a:chExt cx="8494200" cy="4997520"/>
                                                                              </a:xfrm>
                                                                            </p:grpSpPr>
                                                                            <p:grpSp>
                                                                              <p:nvGrpSpPr>
                                                                                <p:cNvPr id="202" name=""/>
                                                                                <p:cNvGrpSpPr/>
                                                                                <p:nvPr/>
                                                                              </p:nvGrpSpPr>
                                                                              <p:grpSpPr>
                                                                                <a:xfrm>
                                                                                  <a:off x="179280" y="765000"/>
                                                                                  <a:ext cx="8494200" cy="4997520"/>
                                                                                  <a:chOff x="179280" y="765000"/>
                                                                                  <a:chExt cx="8494200" cy="4997520"/>
                                                                                </a:xfrm>
                                                                              </p:grpSpPr>
                                                                              <p:grpSp>
                                                                                <p:nvGrpSpPr>
                                                                                  <p:cNvPr id="203" name=""/>
                                                                                  <p:cNvGrpSpPr/>
                                                                                  <p:nvPr/>
                                                                                </p:nvGrpSpPr>
                                                                                <p:grpSpPr>
                                                                                  <a:xfrm>
                                                                                    <a:off x="179280" y="765000"/>
                                                                                    <a:ext cx="8494200" cy="4997520"/>
                                                                                    <a:chOff x="179280" y="765000"/>
                                                                                    <a:chExt cx="8494200" cy="4997520"/>
                                                                                  </a:xfrm>
                                                                                </p:grpSpPr>
                                                                                <p:grpSp>
                                                                                  <p:nvGrpSpPr>
                                                                                    <p:cNvPr id="204" name=""/>
                                                                                    <p:cNvGrpSpPr/>
                                                                                    <p:nvPr/>
                                                                                  </p:nvGrpSpPr>
                                                                                  <p:grpSpPr>
                                                                                    <a:xfrm>
                                                                                      <a:off x="179280" y="765000"/>
                                                                                      <a:ext cx="8494200" cy="4997520"/>
                                                                                      <a:chOff x="179280" y="765000"/>
                                                                                      <a:chExt cx="8494200" cy="4997520"/>
                                                                                    </a:xfrm>
                                                                                  </p:grpSpPr>
                                                                                  <p:grpSp>
                                                                                    <p:nvGrpSpPr>
                                                                                      <p:cNvPr id="205" name=""/>
                                                                                      <p:cNvGrpSpPr/>
                                                                                      <p:nvPr/>
                                                                                    </p:nvGrpSpPr>
                                                                                    <p:grpSpPr>
                                                                                      <a:xfrm>
                                                                                        <a:off x="179280" y="765000"/>
                                                                                        <a:ext cx="8494200" cy="4997520"/>
                                                                                        <a:chOff x="179280" y="765000"/>
                                                                                        <a:chExt cx="8494200" cy="4997520"/>
                                                                                      </a:xfrm>
                                                                                    </p:grpSpPr>
                                                                                    <p:grpSp>
                                                                                      <p:nvGrpSpPr>
                                                                                        <p:cNvPr id="206" name=""/>
                                                                                        <p:cNvGrpSpPr/>
                                                                                        <p:nvPr/>
                                                                                      </p:nvGrpSpPr>
                                                                                      <p:grpSpPr>
                                                                                        <a:xfrm>
                                                                                          <a:off x="179280" y="765000"/>
                                                                                          <a:ext cx="8494200" cy="4997520"/>
                                                                                          <a:chOff x="179280" y="765000"/>
                                                                                          <a:chExt cx="8494200" cy="4997520"/>
                                                                                        </a:xfrm>
                                                                                      </p:grpSpPr>
                                                                                      <p:grpSp>
                                                                                        <p:nvGrpSpPr>
                                                                                          <p:cNvPr id="207" name=""/>
                                                                                          <p:cNvGrpSpPr/>
                                                                                          <p:nvPr/>
                                                                                        </p:nvGrpSpPr>
                                                                                        <p:grpSpPr>
                                                                                          <a:xfrm>
                                                                                            <a:off x="179280" y="765000"/>
                                                                                            <a:ext cx="8494200" cy="4997520"/>
                                                                                            <a:chOff x="179280" y="765000"/>
                                                                                            <a:chExt cx="8494200" cy="4997520"/>
                                                                                          </a:xfrm>
                                                                                        </p:grpSpPr>
                                                                                        <p:grpSp>
                                                                                          <p:nvGrpSpPr>
                                                                                            <p:cNvPr id="208" name=""/>
                                                                                            <p:cNvGrpSpPr/>
                                                                                            <p:nvPr/>
                                                                                          </p:nvGrpSpPr>
                                                                                          <p:grpSpPr>
                                                                                            <a:xfrm>
                                                                                              <a:off x="179280" y="765000"/>
                                                                                              <a:ext cx="8494200" cy="4997520"/>
                                                                                              <a:chOff x="179280" y="765000"/>
                                                                                              <a:chExt cx="8494200" cy="4997520"/>
                                                                                            </a:xfrm>
                                                                                          </p:grpSpPr>
                                                                                          <p:grpSp>
                                                                                            <p:nvGrpSpPr>
                                                                                              <p:cNvPr id="209" name=""/>
                                                                                              <p:cNvGrpSpPr/>
                                                                                              <p:nvPr/>
                                                                                            </p:nvGrpSpPr>
                                                                                            <p:grpSpPr>
                                                                                              <a:xfrm>
                                                                                                <a:off x="179280" y="765000"/>
                                                                                                <a:ext cx="8494200" cy="4997520"/>
                                                                                                <a:chOff x="179280" y="765000"/>
                                                                                                <a:chExt cx="8494200" cy="4997520"/>
                                                                                              </a:xfrm>
                                                                                            </p:grpSpPr>
                                                                                            <p:grpSp>
                                                                                              <p:nvGrpSpPr>
                                                                                                <p:cNvPr id="210" name=""/>
                                                                                                <p:cNvGrpSpPr/>
                                                                                                <p:nvPr/>
                                                                                              </p:nvGrpSpPr>
                                                                                              <p:grpSpPr>
                                                                                                <a:xfrm>
                                                                                                  <a:off x="179280" y="765000"/>
                                                                                                  <a:ext cx="8494200" cy="4997520"/>
                                                                                                  <a:chOff x="179280" y="765000"/>
                                                                                                  <a:chExt cx="8494200" cy="4997520"/>
                                                                                                </a:xfrm>
                                                                                              </p:grpSpPr>
                                                                                              <p:grpSp>
                                                                                                <p:nvGrpSpPr>
                                                                                                  <p:cNvPr id="211" name=""/>
                                                                                                  <p:cNvGrpSpPr/>
                                                                                                  <p:nvPr/>
                                                                                                </p:nvGrpSpPr>
                                                                                                <p:grpSpPr>
                                                                                                  <a:xfrm>
                                                                                                    <a:off x="179280" y="765000"/>
                                                                                                    <a:ext cx="8494200" cy="4997520"/>
                                                                                                    <a:chOff x="179280" y="765000"/>
                                                                                                    <a:chExt cx="8494200" cy="4997520"/>
                                                                                                  </a:xfrm>
                                                                                                </p:grpSpPr>
                                                                                                <p:grpSp>
                                                                                                  <p:nvGrpSpPr>
                                                                                                    <p:cNvPr id="212" name=""/>
                                                                                                    <p:cNvGrpSpPr/>
                                                                                                    <p:nvPr/>
                                                                                                  </p:nvGrpSpPr>
                                                                                                  <p:grpSpPr>
                                                                                                    <a:xfrm>
                                                                                                      <a:off x="179280" y="765000"/>
                                                                                                      <a:ext cx="8494200" cy="4997520"/>
                                                                                                      <a:chOff x="179280" y="765000"/>
                                                                                                      <a:chExt cx="8494200" cy="4997520"/>
                                                                                                    </a:xfrm>
                                                                                                  </p:grpSpPr>
                                                                                                  <p:grpSp>
                                                                                                    <p:nvGrpSpPr>
                                                                                                      <p:cNvPr id="213" name=""/>
                                                                                                      <p:cNvGrpSpPr/>
                                                                                                      <p:nvPr/>
                                                                                                    </p:nvGrpSpPr>
                                                                                                    <p:grpSpPr>
                                                                                                      <a:xfrm>
                                                                                                        <a:off x="179280" y="765000"/>
                                                                                                        <a:ext cx="8494200" cy="4997520"/>
                                                                                                        <a:chOff x="179280" y="765000"/>
                                                                                                        <a:chExt cx="8494200" cy="4997520"/>
                                                                                                      </a:xfrm>
                                                                                                    </p:grpSpPr>
                                                                                                    <p:grpSp>
                                                                                                      <p:nvGrpSpPr>
                                                                                                        <p:cNvPr id="214" name=""/>
                                                                                                        <p:cNvGrpSpPr/>
                                                                                                        <p:nvPr/>
                                                                                                      </p:nvGrpSpPr>
                                                                                                      <p:grpSpPr>
                                                                                                        <a:xfrm>
                                                                                                          <a:off x="179280" y="765000"/>
                                                                                                          <a:ext cx="8494200" cy="4997520"/>
                                                                                                          <a:chOff x="179280" y="765000"/>
                                                                                                          <a:chExt cx="8494200" cy="4997520"/>
                                                                                                        </a:xfrm>
                                                                                                      </p:grpSpPr>
                                                                                                      <p:sp>
                                                                                                        <p:nvSpPr>
                                                                                                          <p:cNvPr id="215" name=""/>
                                                                                                          <p:cNvSpPr/>
                                                                                                          <p:nvPr/>
                                                                                                        </p:nvSpPr>
                                                                                                        <p:spPr>
                                                                                                          <a:xfrm>
                                                                                                            <a:off x="6804000" y="2638080"/>
                                                                                                            <a:ext cx="73080" cy="72720"/>
                                                                                                          </a:xfrm>
                                                                                                          <a:prstGeom prst="ellipse">
                                                                                                            <a:avLst/>
                                                                                                          </a:prstGeom>
                                                                                                          <a:solidFill>
                                                                                                            <a:srgbClr val="ff3300"/>
                                                                                                          </a:solidFill>
                                                                                                          <a:ln w="9360">
                                                                                                            <a:solidFill>
                                                                                                              <a:srgbClr val="ffffff"/>
                                                                                                            </a:solidFill>
                                                                                                            <a:miter/>
                                                                                                          </a:ln>
                                                                                                        </p:spPr>
                                                                                                        <p:style>
                                                                                                          <a:lnRef idx="0"/>
                                                                                                          <a:fillRef idx="0"/>
                                                                                                          <a:effectRef idx="0"/>
                                                                                                          <a:fontRef idx="minor"/>
                                                                                                        </p:style>
                                                                                                        <p:txBody>
                                                                                                          <a:bodyPr wrap="none" lIns="90000" rIns="90000" tIns="5040" bIns="5040" anchor="ctr">
                                                                                                            <a:noAutofit/>
                                                                                                          </a:bodyPr>
                                                                                                          <a:p>
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<a:solidFill>
                                                                                                                <a:srgbClr val="ffffff"/>
                                                                                                              </a:solidFill>
                                                                                                              <a:latin typeface="Arial"/>
                                                                                                            </a:endParaRPr>
                                                                                                          </a:p>
                                                                                                        </p:txBody>
                                                                                                      </p:sp>
                                                                                                      <p:grpSp>
                                                                                                        <p:nvGrpSpPr>
                                                                                                          <p:cNvPr id="216" name=""/>
                                                                                                          <p:cNvGrpSpPr/>
                                                                                                          <p:nvPr/>
                                                                                                        </p:nvGrpSpPr>
                                                                                                        <p:grpSpPr>
                                                                                                          <a:xfrm>
                                                                                                            <a:off x="179280" y="765000"/>
                                                                                                            <a:ext cx="8494200" cy="4997520"/>
                                                                                                            <a:chOff x="179280" y="765000"/>
                                                                                                            <a:chExt cx="8494200" cy="4997520"/>
                                                                                                          </a:xfrm>
                                                                                                        </p:grpSpPr>
                                                                                                        <p:sp>
                                                                                                          <p:nvSpPr>
                                                                                                            <p:cNvPr id="217" name=""/>
                                                                                                            <p:cNvSpPr/>
                                                                                                            <p:nvPr/>
                                                                                                          </p:nvSpPr>
                                                                                                          <p:spPr>
                                                                                                            <a:xfrm>
                                                                                                              <a:off x="8317080" y="2998440"/>
                                                                                                              <a:ext cx="71280" cy="72720"/>
                                                                                                            </a:xfrm>
                                                                                                            <a:prstGeom prst="ellipse">
                                                                                                              <a:avLst/>
                                                                                                            </a:prstGeom>
                                                                                                            <a:solidFill>
                                                                                                              <a:srgbClr val="ff3300"/>
                                                                                                            </a:solidFill>
                                                                                                            <a:ln w="9360">
                                                                                                              <a:solidFill>
                                                                                                                <a:srgbClr val="ffffff"/>
                                                                                                              </a:solidFill>
                                                                                                              <a:miter/>
                                                                                                            </a:ln>
                                                                                                          </p:spPr>
                                                                                                          <p:style>
                                                                                                            <a:lnRef idx="0"/>
                                                                                                            <a:fillRef idx="0"/>
                                                                                                            <a:effectRef idx="0"/>
                                                                                                            <a:fontRef idx="minor"/>
                                                                                                          </p:style>
                                                                                                          <p:txBody>
                                                                                                            <a:bodyPr wrap="none" lIns="90000" rIns="90000" tIns="5040" bIns="5040" anchor="ctr">
                                                                                                              <a:noAutofit/>
                                                                                                            </a:bodyPr>
                                                                                                            <a:p>
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<a:solidFill>
                                                                                                                  <a:srgbClr val="ffffff"/>
                                                                                                                </a:solidFill>
                                                                                                                <a:latin typeface="Arial"/>
                                                                                                              </a:endParaRPr>
                                                                                                            </a:p>
                                                                                                          </p:txBody>
                                                                                                        </p:sp>
                                                                                                        <p:grpSp>
                                                                                                          <p:nvGrpSpPr>
                                                                                                            <p:cNvPr id="218" name=""/>
                                                                                                            <p:cNvGrpSpPr/>
                                                                                                            <p:nvPr/>
                                                                                                          </p:nvGrpSpPr>
                                                                                                          <p:grpSpPr>
                                                                                                            <a:xfrm>
                                                                                                              <a:off x="179280" y="765000"/>
                                                                                                              <a:ext cx="8494200" cy="4997520"/>
                                                                                                              <a:chOff x="179280" y="765000"/>
                                                                                                              <a:chExt cx="8494200" cy="4997520"/>
                                                                                                            </a:xfrm>
                                                                                                          </p:grpSpPr>
                                                                                                          <p:grpSp>
                                                                                                            <p:nvGrpSpPr>
                                                                                                              <p:cNvPr id="219" name=""/>
                                                                                                              <p:cNvGrpSpPr/>
                                                                                                              <p:nvPr/>
                                                                                                            </p:nvGrpSpPr>
                                                                                                            <p:grpSpPr>
                                                                                                              <a:xfrm>
                                                                                                                <a:off x="179280" y="765000"/>
                                                                                                                <a:ext cx="8494200" cy="4997520"/>
                                                                                                                <a:chOff x="179280" y="765000"/>
                                                                                                                <a:chExt cx="8494200" cy="4997520"/>
                                                                                                              </a:xfrm>
                                                                                                            </p:grpSpPr>
                                                                                                            <p:grpSp>
                                                                                                              <p:nvGrpSpPr>
                                                                                                                <p:cNvPr id="220" name=""/>
                                                                                                                <p:cNvGrpSpPr/>
                                                                                                                <p:nvPr/>
                                                                                                              </p:nvGrpSpPr>
                                                                                                              <p:grpSpPr>
                                                                                                                <a:xfrm>
                                                                                                                  <a:off x="179280" y="765000"/>
                                                                                                                  <a:ext cx="8494200" cy="4997520"/>
                                                                                                                  <a:chOff x="179280" y="765000"/>
                                                                                                                  <a:chExt cx="8494200" cy="4997520"/>
                                                                                                                </a:xfrm>
                                                                                                              </p:grpSpPr>
                                                                                                              <p:grpSp>
                                                                                                                <p:nvGrpSpPr>
                                                                                                                  <p:cNvPr id="221" name=""/>
                                                                                                                  <p:cNvGrpSpPr/>
                                                                                                                  <p:nvPr/>
                                                                                                                </p:nvGrpSpPr>
                                                                                                                <p:grpSpPr>
                                                                                                                  <a:xfrm>
                                                                                                                    <a:off x="179280" y="765000"/>
                                                                                                                    <a:ext cx="8494200" cy="4997520"/>
                                                                                                                    <a:chOff x="179280" y="765000"/>
                                                                                                                    <a:chExt cx="8494200" cy="4997520"/>
                                                                                                                  </a:xfrm>
                                                                                                                </p:grpSpPr>
                                                                                                                <p:grpSp>
                                                                                                                  <p:nvGrpSpPr>
                                                                                                                    <p:cNvPr id="222" name=""/>
                                                                                                                    <p:cNvGrpSpPr/>
                                                                                                                    <p:nvPr/>
                                                                                                                  </p:nvGrpSpPr>
                                                                                                                  <p:grpSpPr>
                                                                                                                    <a:xfrm>
                                                                                                                      <a:off x="179280" y="765000"/>
                                                                                                                      <a:ext cx="8494200" cy="4997520"/>
                                                                                                                      <a:chOff x="179280" y="765000"/>
                                                                                                                      <a:chExt cx="8494200" cy="4997520"/>
                                                                                                                    </a:xfrm>
                                                                                                                  </p:grpSpPr>
                                                                                                                  <p:grpSp>
                                                                                                                    <p:nvGrpSpPr>
                                                                                                                      <p:cNvPr id="223" name=""/>
                                                                                                                      <p:cNvGrpSpPr/>
                                                                                                                      <p:nvPr/>
                                                                                                                    </p:nvGrpSpPr>
                                                                                                                    <p:grpSpPr>
                                                                                                                      <a:xfrm>
                                                                                                                        <a:off x="179280" y="765000"/>
                                                                                                                        <a:ext cx="8494200" cy="4997520"/>
                                                                                                                        <a:chOff x="179280" y="765000"/>
                                                                                                                        <a:chExt cx="8494200" cy="4997520"/>
                                                                                                                      </a:xfrm>
                                                                                                                    </p:grpSpPr>
                                                                                                                    <p:grpSp>
                                                                                                                      <p:nvGrpSpPr>
                                                                                                                        <p:cNvPr id="224" name=""/>
                                                                                                                        <p:cNvGrpSpPr/>
                                                                                                                        <p:nvPr/>
                                                                                                                      </p:nvGrpSpPr>
                                                                                                                      <p:grpSpPr>
                                                                                                                        <a:xfrm>
                                                                                                                          <a:off x="179280" y="836280"/>
                                                                                                                          <a:ext cx="8494200" cy="4926240"/>
                                                                                                                          <a:chOff x="179280" y="836280"/>
                                                                                                                          <a:chExt cx="8494200" cy="4926240"/>
                                                                                                                        </a:xfrm>
                                                                                                                      </p:grpSpPr>
                                                                                                                      <p:grpSp>
                                                                                                                        <p:nvGrpSpPr>
                                                                                                                          <p:cNvPr id="225" name=""/>
                                                                                                                          <p:cNvGrpSpPr/>
                                                                                                                          <p:nvPr/>
                                                                                                                        </p:nvGrpSpPr>
                                                                                                                        <p:grpSpPr>
                                                                                                                          <a:xfrm>
                                                                                                                            <a:off x="179280" y="836280"/>
                                                                                                                            <a:ext cx="8494200" cy="4926240"/>
                                                                                                                            <a:chOff x="179280" y="836280"/>
                                                                                                                            <a:chExt cx="8494200" cy="4926240"/>
                                                                                                                          </a:xfrm>
                                                                                                                        </p:grpSpPr>
                                                                                                                        <p:grpSp>
                                                                                                                          <p:nvGrpSpPr>
                                                                                                                            <p:cNvPr id="226" name=""/>
                                                                                                                            <p:cNvGrpSpPr/>
                                                                                                                            <p:nvPr/>
                                                                                                                          </p:nvGrpSpPr>
                                                                                                                          <p:grpSpPr>
                                                                                                                            <a:xfrm>
                                                                                                                              <a:off x="179280" y="836280"/>
                                                                                                                              <a:ext cx="8494200" cy="4926240"/>
                                                                                                                              <a:chOff x="179280" y="836280"/>
                                                                                                                              <a:chExt cx="8494200" cy="4926240"/>
                                                                                                                            </a:xfrm>
                                                                                                                          </p:grpSpPr>
                                                                                                                          <p:grpSp>
                                                                                                                            <p:nvGrpSpPr>
                                                                                                                              <p:cNvPr id="227" name=""/>
                                                                                                                              <p:cNvGrpSpPr/>
                                                                                                                              <p:nvPr/>
                                                                                                                            </p:nvGrpSpPr>
                                                                                                                            <p:grpSpPr>
                                                                                                                              <a:xfrm>
                                                                                                                                <a:off x="179280" y="836280"/>
                                                                                                                                <a:ext cx="8494200" cy="4926240"/>
                                                                                                                                <a:chOff x="179280" y="836280"/>
                                                                                                                                <a:chExt cx="8494200" cy="4926240"/>
                                                                                                                              </a:xfrm>
                                                                                                                            </p:grpSpPr>
                                                                                                                            <p:grpSp>
                                                                                                                              <p:nvGrpSpPr>
                                                                                                                                <p:cNvPr id="228" name=""/>
                                                                                                                                <p:cNvGrpSpPr/>
                                                                                                                                <p:nvPr/>
                                                                                                                              </p:nvGrpSpPr>
                                                                                                                              <p:grpSpPr>
                                                                                                                                <a:xfrm>
                                                                                                                                  <a:off x="179280" y="836280"/>
                                                                                                                                  <a:ext cx="8494200" cy="4926240"/>
                                                                                                                                  <a:chOff x="179280" y="836280"/>
                                                                                                                                  <a:chExt cx="8494200" cy="4926240"/>
                                                                                                                                </a:xfrm>
                                                                                                                              </p:grpSpPr>
                                                                                                                              <p:grpSp>
                                                                                                                                <p:nvGrpSpPr>
                                                                                                                                  <p:cNvPr id="229" name=""/>
                                                                                                                                  <p:cNvGrpSpPr/>
                                                                                                                                  <p:nvPr/>
                                                                                                                                </p:nvGrpSpPr>
                                                                                                                                <p:grpSpPr>
                                                                                                                                  <a:xfrm>
                                                                                                                                    <a:off x="179280" y="836280"/>
                                                                                                                                    <a:ext cx="8494200" cy="4926240"/>
                                                                                                                                    <a:chOff x="179280" y="836280"/>
                                                                                                                                    <a:chExt cx="8494200" cy="4926240"/>
                                                                                                                                  </a:xfrm>
                                                                                                                                </p:grpSpPr>
                                                                                                                                <p:grpSp>
                                                                                                                                  <p:nvGrpSpPr>
                                                                                                                                    <p:cNvPr id="230" name=""/>
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<p:nvPr/>
                                                                                                                                  </p:nvGrpSpPr>
                                                                                                                                  <p:grpSpPr>
                                                                                                                                    <a:xfrm>
                                                                                                                                      <a:off x="179280" y="836280"/>
                                                                                                                                      <a:ext cx="8494200" cy="4926240"/>
                                                                                                                                      <a:chOff x="179280" y="836280"/>
                                                                                                                                      <a:chExt cx="8494200" cy="4926240"/>
                                                                                                                                    </a:xfrm>
                                                                                                                                  </p:grpSpPr>
                                                                                                                                  <p:grpSp>
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<p:cNvPr id="231" name=""/>
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<p:nvPr/>
                                                                                                                                    </p:nvGrpSpPr>
                                                                                                                                    <p:grpSpPr>
                                                                                                                                      <a:xfrm>
                                                                                                                                        <a:off x="179280" y="836280"/>
                                                                                                                                        <a:ext cx="8494200" cy="4926240"/>
                                                                                                                                        <a:chOff x="179280" y="836280"/>
                                                                                                                                        <a:chExt cx="8494200" cy="4926240"/>
                                                                                                                                      </a:xfrm>
                                                                                                                                    </p:grpSpPr>
                                                                                                                                    <p:grpSp>
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<p:cNvPr id="232" name=""/>
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<a:off x="179280" y="836280"/>
                                                                                                                                          <a:ext cx="8494200" cy="4926240"/>
                                                                                                                                          <a:chOff x="179280" y="836280"/>
                                                                                                                                          <a:chExt cx="8494200" cy="4926240"/>
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<p:sp>
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<p:cNvPr id="233" name=""/>
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<a:xfrm flipH="1" flipV="1">
                                                                                                                                            <a:off x="1402920" y="2131920"/>
                                                                                                                                            <a:ext cx="288720" cy="1296720"/>
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<a:srgbClr val="00ff00"/>
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</p:sp>
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<p:cNvPr id="234" name=""/>
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<a:off x="179280" y="836280"/>
                                                                                                                                            <a:ext cx="8494200" cy="4926240"/>
                                                                                                                                            <a:chOff x="179280" y="836280"/>
                                                                                                                                            <a:chExt cx="8494200" cy="4926240"/>
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<p:cNvPr id="235" name=""/>
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<a:off x="179280" y="836280"/>
                                                                                                                                              <a:ext cx="8494200" cy="4926240"/>
                                                                                                                                              <a:chOff x="179280" y="836280"/>
                                                                                                                                              <a:chExt cx="8494200" cy="4926240"/>
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<p:cNvPr id="236" name=""/>
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<a:off x="179280" y="836280"/>
                                                                                                                                                <a:ext cx="8494200" cy="4926240"/>
                                                                                                                                                <a:chOff x="179280" y="836280"/>
                                                                                                                                                <a:chExt cx="8494200" cy="4926240"/>
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<p:cNvPr id="237" name=""/>
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<a:off x="179280" y="836280"/>
                                                                                                                                                  <a:ext cx="8494200" cy="4751280"/>
                                                                                                                                                  <a:chOff x="179280" y="836280"/>
                                                                                                                                                  <a:chExt cx="8494200" cy="4751280"/>
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<p:cNvPr id="238" name=""/>
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<a:off x="179280" y="836280"/>
                                                                                                                                                    <a:ext cx="8494200" cy="4751280"/>
                                                                                                                                                    <a:chOff x="179280" y="836280"/>
                                                                                                                                                    <a:chExt cx="8494200" cy="4751280"/>
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<p:cNvPr id="239" name=""/>
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<a:off x="179280" y="836280"/>
                                                                                                                                                      <a:ext cx="8494200" cy="4751280"/>
                                                                                                                                                      <a:chOff x="179280" y="836280"/>
                                                                                                                                                      <a:chExt cx="8494200" cy="4751280"/>
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<p:cNvPr id="240" name=""/>
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<a:off x="179280" y="836280"/>
                                                                                                                                                        <a:ext cx="8494200" cy="4751280"/>
                                                                                                                                                        <a:chOff x="179280" y="836280"/>
                                                                                                                                                        <a:chExt cx="8494200" cy="4751280"/>
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<p:cNvPr id="241" name=""/>
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<a:off x="179280" y="836280"/>
                                                                                                                                                          <a:ext cx="8494200" cy="4751280"/>
                                                                                                                                                          <a:chOff x="179280" y="836280"/>
                                                                                                                                                          <a:chExt cx="8494200" cy="4751280"/>
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<p:cNvPr id="242" name=""/>
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<a:off x="179280" y="836280"/>
                                                                                                                                                            <a:ext cx="8494200" cy="4751280"/>
                                                                                                                                                            <a:chOff x="179280" y="836280"/>
                                                                                                                                                            <a:chExt cx="8494200" cy="4751280"/>
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<p:cNvPr id="243" name=""/>
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<a:off x="250560" y="836280"/>
                                                                                                                                                              <a:ext cx="8422920" cy="4751280"/>
                                                                                                                                                              <a:chOff x="250560" y="836280"/>
                                                                                                                                                              <a:chExt cx="8422920" cy="4751280"/>
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<p:cNvPr id="244" name=""/>
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<a:off x="250560" y="836280"/>
                                                                                                                                                                <a:ext cx="8422920" cy="4751280"/>
                                                                                                                                                                <a:chOff x="250560" y="836280"/>
                                                                                                                                                                <a:chExt cx="8422920" cy="4751280"/>
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<p:cNvPr id="245" name=""/>
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<a:off x="250560" y="836280"/>
                                                                                                                                                                  <a:ext cx="8422920" cy="4751280"/>
                                                                                                                                                                  <a:chOff x="250560" y="836280"/>
                                                                                                                                                                  <a:chExt cx="8422920" cy="4751280"/>
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<p:cNvPr id="246" name=""/>
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<a:off x="394560" y="836280"/>
                                                                                                                                                                    <a:ext cx="8278920" cy="4751280"/>
                                                                                                                                                                    <a:chOff x="394560" y="836280"/>
                                                                                                                                                                    <a:chExt cx="8278920" cy="4751280"/>
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<p:cNvPr id="247" name=""/>
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<a:off x="394560" y="836280"/>
                                                                                                                                                                      <a:ext cx="8278920" cy="4751280"/>
                                                                                                                                                                      <a:chOff x="394560" y="836280"/>
                                                                                                                                                                      <a:chExt cx="8278920" cy="4751280"/>
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<p:cNvPr id="248" name=""/>
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<a:off x="394560" y="836280"/>
                                                                                                                                                                        <a:ext cx="8278920" cy="4751280"/>
                                                                                                                                                                        <a:chOff x="394560" y="836280"/>
                                                                                                                                                                        <a:chExt cx="8278920" cy="4751280"/>
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<p:cNvPr id="249" name=""/>
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<a:off x="394560" y="836280"/>
                                                                                                                                                                          <a:ext cx="8278920" cy="4751280"/>
                                                                                                                                                                          <a:chOff x="394560" y="836280"/>
                                                                                                                                                                          <a:chExt cx="8278920" cy="4751280"/>
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<p:cNvPr id="250" name=""/>
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<a:off x="394560" y="836280"/>
                                                                                                                                                                            <a:ext cx="8278920" cy="4751280"/>
                                                                                                                                                                            <a:chOff x="394560" y="836280"/>
                                                                                                                                                                            <a:chExt cx="8278920" cy="4751280"/>
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<p:cNvPr id="251" name=""/>
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<a:off x="394560" y="836280"/>
                                                                                                                                                                              <a:ext cx="8278920" cy="4751280"/>
                                                                                                                                                                              <a:chOff x="394560" y="836280"/>
                                                                                                                                                                              <a:chExt cx="8278920" cy="4751280"/>
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<p:cNvPr id="252" name=""/>
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<a:off x="394560" y="836280"/>
                                                                                                                                                                                <a:ext cx="8278920" cy="4751280"/>
                                                                                                                                                                                <a:chOff x="394560" y="836280"/>
                                                                                                                                                                                <a:chExt cx="8278920" cy="4751280"/>
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<p:cNvPr id="253" name=""/>
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<a:off x="1402200" y="836280"/>
                                                                                                                                                                                  <a:ext cx="7271280" cy="4751280"/>
                                                                                                                                                                                  <a:chOff x="1402200" y="836280"/>
                                                                                                                                                                                  <a:chExt cx="7271280" cy="4751280"/>
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<p:cNvPr id="254" name=""/>
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<a:off x="1402200" y="836280"/>
                                                                                                                                                                                    <a:ext cx="7271280" cy="4751280"/>
                                                                                                                                                                                    <a:chOff x="1402200" y="836280"/>
                                                                                                                                                                                    <a:chExt cx="7271280" cy="4751280"/>
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<p:cNvPr id="255" name=""/>
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<a:ext cx="7127280" cy="4032360"/>
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<a:chExt cx="7127280" cy="4032360"/>
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<p:cNvPr id="256" name=""/>
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<a:ext cx="7127280" cy="4032360"/>
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<a:chExt cx="7127280" cy="4032360"/>
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<p:cNvPr id="257" name=""/>
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<a:ext cx="7127280" cy="4032360"/>
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<a:chExt cx="7127280" cy="4032360"/>
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<p:cNvPr id="258" name=""/>
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<a:ext cx="7127280" cy="4032360"/>
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<a:chExt cx="7127280" cy="4032360"/>
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<p:cNvPr id="259" name=""/>
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<a:ext cx="7127280" cy="3959280"/>
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<a:chExt cx="7127280" cy="3959280"/>
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<p:cNvPr id="260" name=""/>
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<a:ext cx="7127280" cy="3959280"/>
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<a:chExt cx="7127280" cy="3959280"/>
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<p:cNvPr id="261" name=""/>
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  <a:ext cx="7127280" cy="3959280"/>
  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  <a:chExt cx="7127280" cy="3959280"/>
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<p:cNvPr id="262" name=""/>
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    <a:ext cx="7127280" cy="3672000"/>
    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    <a:chExt cx="7127280" cy="3672000"/>
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<p:cNvPr id="263" name=""/>
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      <a:ext cx="7127280" cy="3672000"/>
      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      <a:chExt cx="7127280" cy="3672000"/>
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<p:cNvPr id="264" name=""/>
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        <a:ext cx="7127280" cy="3672000"/>
        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        <a:chExt cx="7127280" cy="3672000"/>
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<p:cNvPr id="265" name=""/>
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          <a:ext cx="7127280" cy="3672000"/>
          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          <a:chExt cx="7127280" cy="3672000"/>
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<p:cNvPr id="266" name=""/>
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            <a:ext cx="7127280" cy="3672000"/>
            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            <a:chExt cx="7127280" cy="3672000"/>
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  <p:cNvPr id="267" name=""/>
  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              <a:ext cx="7127280" cy="3672000"/>
              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              <a:chExt cx="7127280" cy="3672000"/>
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    <p:cNvPr id="268" name=""/>
    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                <a:ext cx="6768720" cy="3527280"/>
                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                <a:chExt cx="6768720" cy="3527280"/>
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      <p:cNvPr id="269" name=""/>
      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                  <a:ext cx="6768720" cy="3527280"/>
                  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                  <a:chExt cx="6768720" cy="3527280"/>
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        <p:cNvPr id="270" name=""/>
        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                    <a:ext cx="6048360" cy="3527280"/>
                    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                    <a:chExt cx="6048360" cy="3527280"/>
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          <p:cNvPr id="271" name=""/>
          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                      <a:ext cx="6048360" cy="3527280"/>
                      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                      <a:chExt cx="6048360" cy="3527280"/>
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            <p:cNvPr id="272" name=""/>
            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                        <a:ext cx="6048360" cy="3527280"/>
                        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                        <a:chExt cx="6048360" cy="3527280"/>
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              <p:cNvPr id="273" name=""/>
              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                          <a:ext cx="6048360" cy="3527280"/>
                          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                          <a:chExt cx="6048360" cy="3527280"/>
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                <p:cNvPr id="274" name=""/>
                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                            <a:ext cx="6048360" cy="3527280"/>
                            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                            <a:chExt cx="6048360" cy="3527280"/>
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                  <p:cNvPr id="275" name=""/>
                  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                              <a:ext cx="6048360" cy="3527280"/>
                              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                              <a:chExt cx="6048360" cy="3527280"/>
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                    <p:cNvPr id="276" name=""/>
                    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                                <a:ext cx="6048360" cy="3527280"/>
                                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                                <a:chExt cx="6048360" cy="3527280"/>
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                      <p:cNvPr id="277" name=""/>
                      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                                  <a:ext cx="6048360" cy="3527280"/>
                                  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                                  <a:chExt cx="6048360" cy="3527280"/>
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                        <p:cNvPr id="278" name=""/>
                        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                                    <a:ext cx="6048360" cy="3527280"/>
                                    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                                    <a:chExt cx="6048360" cy="3527280"/>
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                          <p:cNvPr id="279" name=""/>
                          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                                      <a:ext cx="6048360" cy="3527280"/>
                                      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                                      <a:chExt cx="6048360" cy="3527280"/>
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                            <p:cNvPr id="280" name=""/>
                            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      <a:off x="1546200" y="836280"/>
                                                                                                                                                                                                                                        <a:ext cx="6048360" cy="3527280"/>
                                                                                                                                                                                                                                        <a:chOff x="1546200" y="836280"/>
                                                                                                                                                                                                                                        <a:chExt cx="6048360" cy="3527280"/>
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                              <p:cNvPr id="281" name=""/>
                              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        <a:off x="1546200" y="1412640"/>
                                                                                                                                                                                                                                          <a:ext cx="6048360" cy="2950920"/>
                                                                                                                                                                                                                                          <a:chOff x="1546200" y="1412640"/>
                                                                                                                                                                                                                                          <a:chExt cx="6048360" cy="2950920"/>
  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                                <p:cNvPr id="282" name=""/>
                                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          <a:off x="1546200" y="1483920"/>
                                                                                                                                                                                                                                            <a:ext cx="6048360" cy="2879640"/>
                                                                                                                                                                                                                                            <a:chOff x="1546200" y="1483920"/>
                                                                                                                                                                                                                                            <a:chExt cx="6048360" cy="2879640"/>
    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              <p:cNvPr id="283" name=""/>
              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            <a:off x="5362560" y="1915920"/>
                                                                                                                                                                                                                                              <a:ext cx="73080" cy="71280"/>
      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              <a:bodyPr wrap="none" lIns="90000" rIns="90000" tIns="3600" bIns="3600" anchor="ctr">
              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                                  <p:cNvPr id="284" name=""/>
                                  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            <a:off x="1546200" y="1483920"/>
                                                                                                                                                                                                                                              <a:ext cx="6048360" cy="2879640"/>
                                                                                                                                                                                                                                              <a:chOff x="1546200" y="1483920"/>
                                                                                                                                                                                                                                              <a:chExt cx="6048360" cy="2879640"/>
      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                                    <p:cNvPr id="285" name=""/>
                                    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              <a:off x="1546200" y="1986840"/>
                                                                                                                                                                                                                                                <a:ext cx="6048360" cy="2376720"/>
                                                                                                                                                                                                                                                <a:chOff x="1546200" y="1986840"/>
                                                                                                                                                                                                                                                <a:chExt cx="6048360" cy="2376720"/>
        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                                      <p:cNvPr id="286" name=""/>
                                      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                <a:off x="1546200" y="2203200"/>
                                                                                                                                                                                                                                                  <a:ext cx="6048360" cy="2160360"/>
                                                                                                                                                                                                                                                  <a:chOff x="1546200" y="2203200"/>
                                                                                                                                                                                                                                                  <a:chExt cx="6048360" cy="2160360"/>
          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                    <p:cNvPr id="287" name=""/>
                    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                  <a:off x="5938920" y="3139560"/>
                                                                                                                                                                                                                                                    <a:ext cx="431640" cy="216000"/>
            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                    <a:bodyPr wrap="none" lIns="90000" rIns="90000" tIns="46800" bIns="46800" anchor="ctr">
                    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                    <p:cNvPr id="288" name=""/>
                    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                  <a:off x="4498920" y="3931920"/>
                                                                                                                                                                                                                                                    <a:ext cx="287280" cy="144360"/>
            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                    <a:bodyPr wrap="none" lIns="90000" rIns="90000" tIns="46800" bIns="46800" anchor="ctr">
                    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                    <p:cNvPr id="289" name=""/>
                    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                  <a:off x="3490920" y="4220640"/>
                                                                                                                                                                                                                                                    <a:ext cx="216000" cy="142920"/>
            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                    <a:bodyPr wrap="none" lIns="90000" rIns="90000" tIns="46800" bIns="46800" anchor="ctr">
                    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                    <p:cNvPr id="290" name=""/>
                    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                  <a:off x="3562200" y="2203200"/>
                                                                                                                                                                                                                                                    <a:ext cx="432000" cy="217440"/>
            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                    <a:bodyPr wrap="none" lIns="90000" rIns="90000" tIns="46800" bIns="46800" anchor="ctr">
                    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                    <p:cNvPr id="291" name=""/>
                    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                  <a:off x="1546200" y="3499920"/>
                                                                                                                                                                                                                                                    <a:ext cx="360360" cy="216000"/>
            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                    <a:bodyPr wrap="none" lIns="90000" rIns="90000" tIns="46800" bIns="46800" anchor="ctr">
                    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                    <p:cNvPr id="292" name=""/>
                    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                  <a:off x="7378560" y="3212640"/>
                                                                                                                                                                                                                                                    <a:ext cx="216000" cy="71640"/>
            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                    <a:bodyPr wrap="none" lIns="90000" rIns="90000" tIns="3960" bIns="3960" anchor="ctr">
                    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                    <p:cNvPr id="293" name=""/>
                    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                  <a:off x="2843280" y="4076280"/>
                                                                                                                                                                                                                                                    <a:ext cx="215640" cy="71640"/>
            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                    <a:bodyPr wrap="none" lIns="90000" rIns="90000" tIns="3960" bIns="3960" anchor="ctr">
                    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                  <p:cNvPr id="294" name=""/>
                  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                  <a:xfrm flipV="1">
                                                                                                                                                                                                                                                  <a:off x="3994200" y="1986840"/>
                                                                                                                                                                                                                                                  <a:ext cx="1296720" cy="289080"/>
          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<a:srgbClr val="3399ff"/>
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                <p:cNvPr id="295" name=""/>
                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                <a:xfrm flipV="1">
                                                                                                                                                                                                                                                <a:off x="3922560" y="1483920"/>
                                                                                                                                                                                                                                                <a:ext cx="1297080" cy="719280"/>
        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<a:srgbClr val="33cc33"/>
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            <p:cNvPr id="296" name=""/>
            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          <a:off x="5290920" y="1412640"/>
                                                                                                                                                                                                                                            <a:ext cx="71640" cy="71280"/>
    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            <a:bodyPr wrap="none" lIns="90000" rIns="90000" tIns="3600" bIns="3600" anchor="ctr">
            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          <p:cNvPr id="297" name=""/>
          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        <a:off x="3706920" y="1555560"/>
                                                                                                                                                                                                                                          <a:ext cx="71280" cy="72720"/>
  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          <a:bodyPr wrap="none" lIns="90000" rIns="90000" tIns="5040" bIns="5040" anchor="ctr">
          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          <p:cNvPr id="298" name=""/>
          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        <a:off x="3706920" y="836280"/>
                                                                                                                                                                                                                                          <a:ext cx="71280" cy="71280"/>
  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          <a:bodyPr wrap="none" lIns="90000" rIns="90000" tIns="3600" bIns="3600" anchor="ctr">
          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        <p:cNvPr id="299" name=""/>
        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        <a:xfrm flipV="1">
                                                                                                                                                                                                                                        <a:off x="3778200" y="1555200"/>
                                                                                                                                                                                                                                        <a:ext cx="0" cy="647640"/>
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<a:srgbClr val="ff0066"/>
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        <p:cNvPr id="300" name=""/>
        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        <a:xfrm flipV="1">
                                                                                                                                                                                                                                        <a:off x="3778200" y="907560"/>
                                                                                                                                                                                                                                        <a:ext cx="0" cy="648000"/>
  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<a:srgbClr val="ff0066"/>
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      <p:cNvPr id="301" name=""/>
      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    <a:off x="2554200" y="1844280"/>
                                                                                                                                                                                                                                      <a:ext cx="73080" cy="71640"/>
  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      <a:bodyPr wrap="none" lIns="90000" rIns="90000" tIns="3960" bIns="3960" anchor="ctr">
      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    <p:cNvPr id="302" name=""/>
    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    <a:xfrm flipH="1" flipV="1">
                                                                                                                                                                                                                                    <a:off x="2626920" y="1915560"/>
                                                                                                                                                                                                                                    <a:ext cx="934920" cy="360360"/>
  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<a:srgbClr val="800000"/>
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  <p:cNvPr id="303" name=""/>
  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<a:off x="5506920" y="2347560"/>
                                                                                                                                                                                                                                  <a:ext cx="71640" cy="73080"/>
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  <a:bodyPr wrap="none" lIns="90000" rIns="90000" tIns="5400" bIns="5400" anchor="ctr">
  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  <p:cNvPr id="304" name=""/>
  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    <a:off x="5722920" y="2636640"/>
                                                                                                                                                                                                                                  <a:ext cx="71280" cy="71280"/>
  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  <a:bodyPr wrap="none" lIns="90000" rIns="90000" tIns="3600" bIns="3600" anchor="ctr">
  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<p:cNvPr id="305" name=""/>
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<a:xfrm flipH="1" flipV="1">
                                                                                                                                                                                                                                <a:off x="5794200" y="2707560"/>
                                                                                                                                                                                                                                <a:ext cx="217440" cy="431640"/>
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<a:srgbClr val="990000"/>
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  <p:cNvPr id="306" name=""/>
  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  <a:xfrm flipH="1" flipV="1">
                                                                                                                                                                                                                                <a:off x="5578200" y="2420640"/>
                                                                                                                                                                                                                                <a:ext cx="144360" cy="216000"/>
  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<a:srgbClr val="990000"/>
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  <p:cNvPr id="307" name=""/>
  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  <a:off x="6370560" y="2707920"/>
                                                                                                                                                                                                                              <a:ext cx="73080" cy="71280"/>
  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  <a:bodyPr wrap="none" lIns="90000" rIns="90000" tIns="3600" bIns="3600" anchor="ctr">
  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  <p:cNvPr id="308" name=""/>
  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    <a:off x="6370560" y="2203200"/>
                                                                                                                                                                                                                            <a:ext cx="73080" cy="73080"/>
  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  <a:bodyPr wrap="none" lIns="90000" rIns="90000" tIns="5400" bIns="5400" anchor="ctr">
  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<p:cNvPr id="309" name=""/>
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<a:xfrm flipV="1">
                                                                                                                                                                                                                          <a:off x="6227640" y="2778840"/>
                                                                                                                                                                                                                          <a:ext cx="142920" cy="360360"/>
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<a:srgbClr val="0000ff"/>
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  <p:cNvPr id="310" name=""/>
  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  <a:xfrm flipV="1">
                                                                                                                                                                                                                          <a:off x="6370560" y="2203200"/>
                                                                                                                                                                                                                          <a:ext cx="0" cy="576000"/>
  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<a:srgbClr val="ff00ff"/>
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  <p:cNvPr id="311" name=""/>
  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  <a:off x="7451640" y="2779200"/>
                                                                                                                                                                                                                        <a:ext cx="71640" cy="73080"/>
  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  <a:bodyPr wrap="none" lIns="90000" rIns="90000" tIns="5400" bIns="5400" anchor="ctr">
  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  <p:cNvPr id="312" name=""/>
  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  <a:off x="6875280" y="2995200"/>
                                                                                                                                                                                                                      <a:ext cx="71640" cy="73080"/>
  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  <a:bodyPr wrap="none" lIns="90000" rIns="90000" tIns="5400" bIns="5400" anchor="ctr">
  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<p:cNvPr id="313" name=""/>
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<a:xfrm flipV="1">
                                                                                                                                                                                                                    <a:off x="6441840" y="3067920"/>
                                                                                                                                                                                                                    <a:ext cx="504360" cy="144360"/>
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<a:srgbClr val="33cc33"/>
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<p:cNvPr id="314" name=""/>
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<a:xfrm flipV="1">
                                                                                                                                                                                                                    <a:off x="6946560" y="2852280"/>
                                                                                                                                                                                                                    <a:ext cx="647640" cy="216000"/>
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<a:srgbClr val="33cc33"/>
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<p:cNvPr id="315" name=""/>
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    <a:off x="7594560" y="2852280"/>
                                                                                                                                                                                                                    <a:ext cx="0" cy="287280"/>
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<a:srgbClr val="33cc33"/>
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  <p:cNvPr id="316" name=""/>
  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  <a:xfrm flipV="1">
                                                                                                                                                                                                                    <a:off x="7594560" y="3068280"/>
                                                                                                                                                                                                                    <a:ext cx="720360" cy="71280"/>
  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<a:srgbClr val="33cc33"/>
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  <a:bodyPr lIns="90000" rIns="90000" tIns="24480" bIns="24480" anchor="t">
  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  <p:cNvPr id="317" name=""/>
  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  <a:xfrm flipV="1">
                                                                                                                                                                                                                  <a:off x="6441840" y="2636640"/>
                                                                                                                                                                                                                  <a:ext cx="360000" cy="71280"/>
  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<a:srgbClr val="0000ff"/>
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  <a:bodyPr lIns="90000" rIns="90000" tIns="24480" bIns="24480" anchor="t">
  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<p:cNvPr id="318" name=""/>
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<a:off x="7522920" y="3571560"/>
                                                                                                                                                                                                                <a:ext cx="71280" cy="73080"/>
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<a:bodyPr wrap="none" lIns="90000" rIns="90000" tIns="5400" bIns="5400" anchor="ctr">
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<p:cNvPr id="319" name=""/>
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<a:off x="7883280" y="4003200"/>
                                                                                                                                                                                                                <a:ext cx="71280" cy="73080"/>
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<a:bodyPr wrap="none" lIns="90000" rIns="90000" tIns="5400" bIns="5400" anchor="ctr">
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<p:cNvPr id="320" name=""/>
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<a:off x="8602560" y="3931920"/>
                                                                                                                                                                                                                <a:ext cx="70920" cy="71280"/>
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<a:bodyPr wrap="none" lIns="90000" rIns="90000" tIns="3600" bIns="3600" anchor="ctr">
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<p:cNvPr id="321" name=""/>
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<a:off x="7378560" y="3931920"/>
                                                                                                                                                                                                                <a:ext cx="70920" cy="71280"/>
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<a:bodyPr wrap="none" lIns="90000" rIns="90000" tIns="3600" bIns="3600" anchor="ctr">
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<p:cNvPr id="322" name=""/>
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<a:off x="7738920" y="4436640"/>
                                                                                                                                                                                                                <a:ext cx="70920" cy="71640"/>
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<a:bodyPr wrap="none" lIns="90000" rIns="90000" tIns="3960" bIns="3960" anchor="ctr">
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              <p:cNvPr id="323" name=""/>
              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<a:off x="7378200" y="3284280"/>
                                                                                                                                                                                                              <a:ext cx="1223640" cy="1224000"/>
                                                                                                                                                                                                              <a:chOff x="7378200" y="3284280"/>
                                                                                                                                                                                                              <a:chExt cx="1223640" cy="1224000"/>
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<p:cNvPr id="324" name=""/>
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<a:off x="7522560" y="3284280"/>
                                                                                                                                                                                                                <a:ext cx="71280" cy="287280"/>
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<a:srgbClr val="ff0000"/>
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<p:cNvPr id="325" name=""/>
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<a:off x="7594200" y="3571560"/>
                                                                                                                                                                                                                <a:ext cx="360000" cy="431640"/>
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<a:srgbClr val="ff0000"/>
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<p:cNvPr id="326" name=""/>
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<a:xfrm flipV="1">
                                                                                                                                                                                                                <a:off x="7954560" y="3931920"/>
                                                                                                                                                                                                                <a:ext cx="647280" cy="71280"/>
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<a:srgbClr val="993300"/>
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<a:bodyPr lIns="90000" rIns="90000" tIns="24480" bIns="24480" anchor="t">
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<p:cNvPr id="327" name=""/>
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<a:xfrm flipH="1">
                                                                                                                                                                                                                <a:off x="7378200" y="3715920"/>
                                                                                                                                                                                                                <a:ext cx="286920" cy="216000"/>
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<a:srgbClr val="00ffff"/>
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    <p:cNvPr id="328" name=""/>
    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    <a:off x="7378560" y="3931920"/>
                                                                                                                                                                                                                <a:ext cx="360000" cy="576360"/>
    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<a:srgbClr val="00ffff"/>
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<p:cNvPr id="329" name=""/>
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<a:off x="6441840" y="3715920"/>
                                                                                                                                                                                                            <a:ext cx="72720" cy="71640"/>
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<a:bodyPr wrap="none" lIns="90000" rIns="90000" tIns="3960" bIns="3960" anchor="ctr">
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  <p:cNvPr id="330" name=""/>
  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  <a:off x="6946560" y="4076280"/>
                                                                                                                                                                                                            <a:ext cx="71280" cy="71640"/>
  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  <a:bodyPr wrap="none" lIns="90000" rIns="90000" tIns="3960" bIns="3960" anchor="ctr">
  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<p:cNvPr id="331" name=""/>
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<a:off x="6082920" y="3355560"/>
                                                                                                                                                                                                          <a:ext cx="431640" cy="360360"/>
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<a:srgbClr val="9900ff"/>
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<p:cNvPr id="332" name=""/>
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<a:off x="6514920" y="3715920"/>
                                                                                                                                                                                                          <a:ext cx="502920" cy="360360"/>
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<a:srgbClr val="9900ff"/>
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  <p:cNvPr id="333" name=""/>
  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  <a:off x="7018200" y="4076280"/>
                                                                                                                                                                                                          <a:ext cx="647280" cy="360360"/>
  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<a:srgbClr val="9900ff"/>
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<p:cNvPr id="334" name=""/>
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<a:off x="6082920" y="3787560"/>
                                                                                                                                                                                                        <a:ext cx="71280" cy="72720"/>
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<a:bodyPr wrap="none" lIns="90000" rIns="90000" tIns="5040" bIns="5040" anchor="ctr">
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  <p:cNvPr id="335" name=""/>
  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  <a:off x="6586200" y="4436640"/>
                                                                                                                                                                                                        <a:ext cx="71280" cy="71640"/>
  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  <a:bodyPr wrap="none" lIns="90000" rIns="90000" tIns="3960" bIns="3960" anchor="ctr">
  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<p:cNvPr id="336" name=""/>
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<a:off x="6010200" y="3355560"/>
                                                                                                                                                                                                      <a:ext cx="144000" cy="432000"/>
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<a:srgbClr val="006600"/>
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  <p:cNvPr id="337" name=""/>
  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  <a:off x="6154560" y="3787560"/>
                                                                                                                                                                                                      <a:ext cx="431280" cy="649080"/>
  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<a:srgbClr val="006600"/>
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<p:cNvPr id="338" name=""/>
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<a:off x="4857480" y="4292280"/>
                                                                                                                                                                                                    <a:ext cx="72720" cy="71280"/>
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<a:bodyPr wrap="none" lIns="90000" rIns="90000" tIns="3600" bIns="3600" anchor="ctr">
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  <p:cNvPr id="339" name=""/>
  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  <a:off x="5146560" y="4723920"/>
                                                                                                                                                                                                    <a:ext cx="70920" cy="71640"/>
  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  <a:bodyPr wrap="none" lIns="90000" rIns="90000" tIns="3960" bIns="3960" anchor="ctr">
  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<p:cNvPr id="340" name=""/>
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<a:off x="4857480" y="4076280"/>
                                                                                                                                                                                                  <a:ext cx="72720" cy="71640"/>
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<a:bodyPr wrap="none" lIns="90000" rIns="90000" tIns="3960" bIns="3960" anchor="ctr">
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  <p:grpSp>
                                                                                                                                                                                            <p:nvGrpSpPr>
                                                                                                                                                                                              <p:cNvPr id="341" name=""/>
                                                                                                                                                                                              <p:cNvGrpSpPr/>
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</p:nvGrpSpPr>
                                                                                                                                                                                            <p:grpSpPr>
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<a:off x="4857480" y="3284280"/>
                                                                                                                                                                                                <a:ext cx="1080000" cy="1511280"/>
                                                                                                                                                                                                <a:chOff x="4857480" y="3284280"/>
                                                                                                                                                                                                <a:chExt cx="1080000" cy="1511280"/>
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</p:grpSpPr>
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<p:cNvPr id="342" name=""/>
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<a:xfrm flipH="1">
                                                                                                                                                                                                  <a:off x="4929840" y="3284280"/>
                                                                                                                                                                                                  <a:ext cx="1007640" cy="792000"/>
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<a:srgbClr val="ff0066"/>
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<p:cNvPr id="343" name=""/>
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<a:off x="4857480" y="4147920"/>
                                                                                                                                                                                                  <a:ext cx="0" cy="215640"/>
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<a:srgbClr val="ff0066"/>
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    <p:cNvPr id="344" name=""/>
    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    <a:off x="4857480" y="4363560"/>
                                                                                                                                                                                                  <a:ext cx="288720" cy="432000"/>
    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<a:srgbClr val="ff0066"/>
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<p:cNvPr id="345" name=""/>
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<a:off x="4282920" y="4292280"/>
                                                                                                                                                                                              <a:ext cx="72720" cy="71280"/>
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<a:bodyPr wrap="none" lIns="90000" rIns="90000" tIns="3600" bIns="3600" anchor="ctr">
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  <p:cNvPr id="346" name=""/>
  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  <a:off x="4641480" y="4795560"/>
                                                                                                                                                                                              <a:ext cx="72720" cy="73080"/>
  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  <a:bodyPr wrap="none" lIns="90000" rIns="90000" tIns="5400" bIns="5400" anchor="ctr">
  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<p:cNvPr id="347" name=""/>
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<a:xfrm flipH="1">
                                                                                                                                                                                            <a:off x="4353840" y="4076280"/>
                                                                                                                                                                                            <a:ext cx="144360" cy="287280"/>
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<a:srgbClr val="00ffff"/>
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  <p:cNvPr id="348" name=""/>
  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  <a:off x="4354200" y="4363560"/>
                                                                                                                                                                                            <a:ext cx="286920" cy="432000"/>
  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<a:srgbClr val="00ffff"/>
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<p:cNvPr id="349" name=""/>
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<a:off x="3417840" y="4579560"/>
                                                                                                                                                                                          <a:ext cx="72360" cy="73080"/>
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<a:bodyPr wrap="none" lIns="90000" rIns="90000" tIns="5400" bIns="5400" anchor="ctr">
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  <p:cNvPr id="350" name=""/>
  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    <a:off x="3130200" y="4723920"/>
                                                                                                                                                                                          <a:ext cx="71280" cy="71640"/>
  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  <a:bodyPr wrap="none" lIns="90000" rIns="90000" tIns="3960" bIns="3960" anchor="ctr">
  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<p:cNvPr id="351" name=""/>
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<a:xfrm flipH="1">
                                                                                                                                                                                        <a:off x="3417840" y="4363560"/>
                                                                                                                                                                                        <a:ext cx="144000" cy="216000"/>
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<a:srgbClr val="00ff00"/>
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<p:cNvPr id="352" name=""/>
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<a:xfrm flipH="1">
                                                                                                                                                                                        <a:off x="3130200" y="4579560"/>
                                                                                                                                                                                        <a:ext cx="287280" cy="144360"/>
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<a:srgbClr val="00ff00"/>
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  <p:cNvPr id="353" name=""/>
  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  <a:xfrm flipH="1" flipV="1">
                                                                                                                                                                                        <a:off x="2985840" y="4147920"/>
                                                                                                                                                                                        <a:ext cx="144000" cy="576000"/>
  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<a:srgbClr val="00ff00"/>
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<p:cNvPr id="354" name=""/>
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<a:off x="1546200" y="4652640"/>
                                                                                                                                                                                      <a:ext cx="71280" cy="71280"/>
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<a:bodyPr wrap="none" lIns="90000" rIns="90000" tIns="3600" bIns="3600" anchor="ctr">
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  <p:cNvPr id="355" name=""/>
  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    <a:off x="1402200" y="5516280"/>
                                                                                                                                                                                      <a:ext cx="72720" cy="71280"/>
  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  <a:bodyPr wrap="none" lIns="90000" rIns="90000" tIns="3600" bIns="3600" anchor="ctr">
  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<p:cNvPr id="356" name=""/>
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<a:xfrm flipH="1">
                                                                                                                                                                                    <a:off x="1545840" y="3715920"/>
                                                                                                                                                                                    <a:ext cx="144360" cy="936720"/>
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<a:srgbClr val="0000ff"/>
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  <p:cNvPr id="357" name=""/>
  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  <a:xfrm flipH="1">
                                                                                                                                                                                    <a:off x="1402200" y="4652640"/>
                                                                                                                                                                                    <a:ext cx="144000" cy="934920"/>
  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<a:srgbClr val="0000ff"/>
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<p:cNvPr id="358" name=""/>
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<a:off x="1041840" y="3644640"/>
                                                                                                                                                                                  <a:ext cx="72720" cy="71280"/>
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<a:bodyPr wrap="none" lIns="90000" rIns="90000" tIns="3600" bIns="3600" anchor="ctr">
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  <p:cNvPr id="359" name=""/>
  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    <a:off x="394560" y="3644640"/>
                                                                                                                                                                                  <a:ext cx="72720" cy="71280"/>
  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  <a:bodyPr wrap="none" lIns="90000" rIns="90000" tIns="3600" bIns="3600" anchor="ctr">
  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<p:cNvPr id="360" name=""/>
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<a:xfrm flipH="1">
                                                                                                                                                                                <a:off x="1041480" y="3644640"/>
                                                                                                                                                                                <a:ext cx="504360" cy="71280"/>
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<a:srgbClr val="996600"/>
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<a:bodyPr lIns="90000" rIns="90000" tIns="24480" bIns="24480" anchor="t">
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  <p:cNvPr id="361" name=""/>
  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  <a:xfrm flipH="1">
                                                                                                                                                                                <a:off x="466920" y="3715920"/>
                                                                                                                                                                                <a:ext cx="574200" cy="0"/>
  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<a:srgbClr val="996600"/>
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  <a:bodyPr lIns="90000" rIns="90000" tIns="-46800" bIns="-46800" anchor="t">
  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<p:cNvPr id="362" name=""/>
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<a:off x="1402200" y="3212640"/>
                                                                                                                                                                              <a:ext cx="72720" cy="71640"/>
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<a:bodyPr wrap="none" lIns="90000" rIns="90000" tIns="3960" bIns="3960" anchor="ctr">
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<p:cNvPr id="363" name=""/>
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<a:off x="898920" y="2491920"/>
                                                                                                                                                                              <a:ext cx="71280" cy="71640"/>
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<a:bodyPr wrap="none" lIns="90000" rIns="90000" tIns="3960" bIns="3960" anchor="ctr">
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  <p:cNvPr id="364" name=""/>
  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    <a:off x="467280" y="2636640"/>
                                                                                                                                                                              <a:ext cx="70920" cy="71280"/>
  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  <a:bodyPr wrap="none" lIns="90000" rIns="90000" tIns="3600" bIns="3600" anchor="ctr">
  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<p:cNvPr id="365" name=""/>
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<a:xfrm flipH="1" flipV="1">
                                                                                                                                                                            <a:off x="1475280" y="3283920"/>
                                                                                                                                                                            <a:ext cx="142560" cy="215640"/>
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<a:srgbClr val="ffff99"/>
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<p:cNvPr id="366" name=""/>
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<a:xfrm flipH="1" flipV="1">
                                                                                                                                                                            <a:off x="970560" y="2563200"/>
                                                                                                                                                                            <a:ext cx="431280" cy="649080"/>
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<a:srgbClr val="ffff99"/>
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  <p:cNvPr id="367" name=""/>
  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  <a:xfrm flipH="1">
                                                                                                                                                                            <a:off x="538200" y="2563560"/>
                                                                                                                                                                            <a:ext cx="431640" cy="144360"/>
  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  <p:cNvPr id="368" name=""/>
  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  <a:off x="1330920" y="2131560"/>
                                                                                                                                                                          <a:ext cx="70920" cy="71640"/>
  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  <a:bodyPr wrap="none" lIns="90000" rIns="90000" tIns="3960" bIns="3960" anchor="ctr">
  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<p:cNvPr id="369" name=""/>
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<a:off x="1762560" y="2636640"/>
                                                                                                                                                                        <a:ext cx="71280" cy="71280"/>
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<a:srgbClr val="ff3300"/>
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<a:bodyPr wrap="none" lIns="90000" rIns="90000" tIns="3600" bIns="3600" anchor="ctr">
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  <p:cNvPr id="370" name=""/>
  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    <a:off x="2049840" y="2203200"/>
                                                                                                                                                                        <a:ext cx="72720" cy="73080"/>
  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  <a:prstGeom prst="ellipse">
  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<a:srgbClr val="ff5050"/>
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  <a:bodyPr wrap="none" lIns="90000" rIns="90000" tIns="5400" bIns="5400" anchor="ctr">
  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<p:cNvPr id="371" name=""/>
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<a:xfrm flipV="1">
                                                                                                                                                                      <a:off x="1762560" y="2636640"/>
                                                                                                                                                                      <a:ext cx="71280" cy="863280"/>
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<a:srgbClr val="ff00ff"/>
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  <p:cNvPr id="372" name=""/>
  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  <a:xfrm flipV="1">
                                                                                                                                                                      <a:off x="1834200" y="2203200"/>
                                                                                                                                                                      <a:ext cx="288360" cy="433440"/>
  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<a:srgbClr val="ff00ff"/>
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  <p:cNvPr id="373" name=""/>
  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  <a:off x="250560" y="2636640"/>
                                                                                                                                                                    <a:ext cx="955080" cy="246240"/>
  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  <a:prstGeom prst="rect">
  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                    <a:ln w="0">
                      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  <a:spAutoFit/>
  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  <a:pPr algn="ctr">
                                                                                                                                                                      <a:lnSpc>
                                                                                                                                                                        <a:spcPct val="100000"/>
                                                                                                                                                                      </a:lnSpc>
                                                                                                                                                                      <a:tabLst>
                                                                                                                                                                        <a:tab algn="l" pos="0"/>
                                          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                                          </a:tabLst>
                                                                                                                                                                    </a:pPr>
                                                                                                                                                                    <a:r>
                                                                                                                                                                      <a:rPr b="0" lang="en-US" sz="1000" spc="-1" strike="noStrike">
  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                                </a:rPr>
                                                                                                                                                                      <a:t>Балашейка</a:t>
                                                                                                                                                                    </a:r>
                                                                                                                                                                    <a:endParaRPr b="0" lang="en-US" sz="1000" spc="-1" strike="noStrike">
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  <p:cNvPr id="374" name=""/>
  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  <a:off x="467640" y="2276280"/>
                                                                                                                                                                  <a:ext cx="810720" cy="246240"/>
  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  <a:prstGeom prst="rect">
  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                  <a:ln w="0">
                    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  <a:spAutoFit/>
  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  <a:pPr algn="ctr">
                                                                                                                                                                    <a:lnSpc>
                                                                                                                                                                      <a:spcPct val="100000"/>
                                                                                                                                                                    </a:lnSpc>
                                                                                                                                                                    <a:tabLst>
                                                                                                                                                                      <a:tab algn="l" pos="0"/>
                                        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                                        </a:tabLst>
                                                                                                                                                                  </a:pPr>
                                                                                                                                                                  <a:r>
                                                                                                                                                                    <a:rPr b="0" lang="en-US" sz="1000" spc="-1" strike="noStrike">
  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                              </a:rPr>
                                                                                                                                                                    <a:t>Жемковка</a:t>
                                                                                                                                                                  </a:r>
                                                                                                                                                                  <a:endParaRPr b="0" lang="en-US" sz="1000" spc="-1" strike="noStrike">
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  <p:cNvPr id="375" name=""/>
  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  <a:off x="754920" y="1915920"/>
                                                                                                                                                                <a:ext cx="791640" cy="246240"/>
  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  <a:prstGeom prst="rect">
  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                <a:ln w="0">
                  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  <a:spAutoFit/>
  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  <a:pPr algn="ctr">
                                                                                                                                                                  <a:lnSpc>
                                                                                                                                                                    <a:spcPct val="100000"/>
                                                                                                                                                                  </a:lnSpc>
                                                                                                                                                                  <a:tabLst>
                                                                                                                                                                    <a:tab algn="l" pos="0"/>
                                      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                                      </a:tabLst>
                                                                                                                                                                </a:pPr>
                                                                                                                                                                <a:r>
                                                                                                                                                                  <a:rPr b="0" lang="en-US" sz="1000" spc="-1" strike="noStrike">
  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                            </a:rPr>
                                                                                                                                                                  <a:t>Троицкое</a:t>
                                                                                                                                                                </a:r>
                                                                                                                                                                <a:endParaRPr b="0" lang="en-US" sz="1000" spc="-1" strike="noStrike">
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  <p:cNvPr id="376" name=""/>
  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  <a:off x="179280" y="3644640"/>
                                                                                                                                                              <a:ext cx="865080" cy="246240"/>
  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  <a:prstGeom prst="rect">
  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              <a:ln w="28440">
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<a:srgbClr val="ff9900"/>
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  <a:spAutoFit/>
  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  <a:pPr algn="ctr">
                                                                                                                                                                <a:lnSpc>
                                                                                                                                                                  <a:spcPct val="100000"/>
                                                                                                                                                                </a:lnSpc>
                                                                                                                                                                <a:tabLst>
                                                                                                                                                                  <a:tab algn="l" pos="0"/>
                                    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                                    </a:tabLst>
                                                                                                                                                              </a:pPr>
                                                                                                                                                              <a:r>
                                                                                                                                                                <a:rPr b="0" lang="en-US" sz="1000" spc="-1" strike="noStrike">
  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                          </a:rPr>
                                                                                                                                                                <a:t>Репьевка</a:t>
                                                                                                                                                              </a:r>
                                                                                                                                                              <a:endParaRPr b="0" lang="en-US" sz="1000" spc="-1" strike="noStrike">
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  <p:cNvPr id="377" name=""/>
  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  <a:off x="323640" y="3355560"/>
                                                                                                                                                            <a:ext cx="1007640" cy="246240"/>
  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  <a:prstGeom prst="rect">
  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            <a:ln w="0">
              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  <a:spAutoFit/>
  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  <a:pPr algn="ctr">
                                                                                                                                                              <a:lnSpc>
                                                                                                                                                                <a:spcPct val="100000"/>
                                                                                                                                                              </a:lnSpc>
                                                                                                                                                              <a:tabLst>
                                                                                                                                                                <a:tab algn="l" pos="0"/>
                                  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                                  </a:tabLst>
                                                                                                                                                            </a:pPr>
                                                                                                                                                            <a:r>
                                                                                                                                                              <a:rPr b="0" lang="en-US" sz="1000" spc="-1" strike="noStrike">
  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                        </a:rPr>
                                                                                                                                                              <a:t>Красносельск</a:t>
                                                                                                                                                            </a:r>
                                                                                                                                                            <a:endParaRPr b="0" lang="en-US" sz="1000" spc="-1" strike="noStrike">
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  <p:cNvPr id="378" name=""/>
  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  <a:off x="684000" y="3139560"/>
                                                                                                                                                          <a:ext cx="934560" cy="246240"/>
  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  <a:prstGeom prst="rect">
  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          <a:ln w="0">
            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  <a:spAutoFit/>
  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  <a:pPr algn="ctr">
                                                                                                                                                            <a:lnSpc>
                                                                                                                                                              <a:spcPct val="100000"/>
                                                                                                                                                            </a:lnSpc>
                                                                                                                                                            <a:tabLst>
                                                                                                                                                              <a:tab algn="l" pos="0"/>
                                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                                </a:tabLst>
                                                                                                                                                          </a:pPr>
                                                                                                                                                          <a:r>
                                                                                                                                                            <a:rPr b="0" lang="en-US" sz="1000" spc="-1" strike="noStrike">
  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                      </a:rPr>
                                                                                                                                                            <a:t>Заборовка</a:t>
                                                                                                                                                          </a:r>
                                                                                                                                                          <a:endParaRPr b="0" lang="en-US" sz="1000" spc="-1" strike="noStrike">
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  <p:cNvPr id="379" name=""/>
  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  <a:off x="1979280" y="2203200"/>
                                                                                                                                                        <a:ext cx="936360" cy="276480"/>
  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  <a:prstGeom prst="rect">
  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        <a:ln w="0">
          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  <a:spAutoFit/>
  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  <a:pPr algn="ctr">
                                                                                                                                                          <a:lnSpc>
                                                                                                                                                            <a:spcPct val="100000"/>
                                                                                                                                                          </a:lnSpc>
                                                                                                                                                          <a:tabLst>
                                                                                                                                                            <a:tab algn="l" pos="0"/>
                              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                              </a:tabLst>
                                                                                                                                                        </a:pPr>
                                                                                                                                                        <a:r>
                                                                                                                                                          <a:rPr b="0" lang="en-US" sz="1200" spc="-1" strike="noStrike">
  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                    </a:rPr>
                                                                                                                                                          <a:t>Шигоны</a:t>
                                                                                                                                                        </a:r>
                                                                                                                                                        <a:endParaRPr b="0" lang="en-US" sz="1200" spc="-1" strike="noStrike">
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  <p:cNvPr id="380" name=""/>
  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  <a:off x="1763280" y="2563560"/>
                                                                                                                                                      <a:ext cx="956880" cy="246240"/>
  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  <a:prstGeom prst="rect">
  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      <a:ln w="0">
        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  <a:spAutoFit/>
  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  <a:pPr algn="ctr">
                                                                                                                                                        <a:lnSpc>
                                                                                                                                                          <a:spcPct val="100000"/>
                                                                                                                                                        </a:lnSpc>
                                                                                                                                                        <a:tabLst>
                                                                                                                                                          <a:tab algn="l" pos="0"/>
                            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                            </a:tabLst>
                                                                                                                                                      </a:pPr>
                                                                                                                                                      <a:r>
                                                                                                                                                        <a:rPr b="0" lang="en-US" sz="1000" spc="-1" strike="noStrike">
  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                  </a:rPr>
                                                                                                                                                        <a:t>Кушниково</a:t>
                                                                                                                                                      </a:r>
                                                                                                                                                      <a:endParaRPr b="0" lang="en-US" sz="1000" spc="-1" strike="noStrike">
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  <p:cNvPr id="381" name=""/>
  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  <a:off x="826560" y="4508280"/>
                                                                                                                                                    <a:ext cx="812520" cy="246240"/>
  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  <a:prstGeom prst="rect">
  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    <a:ln w="0">
      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  <a:spAutoFit/>
  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  <a:pPr algn="ctr">
                                                                                                                                                      <a:lnSpc>
                                                                                                                                                        <a:spcPct val="100000"/>
                                                                                                                                                      </a:lnSpc>
                                                                                                                                                      <a:tabLst>
                                                                                                                                                        <a:tab algn="l" pos="0"/>
                          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                          </a:tabLst>
                                                                                                                                                    </a:pPr>
                                                                                                                                                    <a:r>
                                                                                                                                                      <a:rPr b="0" lang="en-US" sz="1000" spc="-1" strike="noStrike">
  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                </a:rPr>
                                                                                                                                                      <a:t>Рябина</a:t>
                                                                                                                                                    </a:r>
                                                                                                                                                    <a:endParaRPr b="0" lang="en-US" sz="1000" spc="-1" strike="noStrike">
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  <p:cNvPr id="382" name=""/>
  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  <a:off x="826560" y="5516280"/>
                                                                                                                                                  <a:ext cx="1315800" cy="246240"/>
  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  <a:prstGeom prst="rect">
  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  <a:ln w="0">
    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  <a:spAutoFit/>
  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  <a:pPr algn="ctr">
                                                                                                                                                    <a:lnSpc>
                                                                                                                                                      <a:spcPct val="100000"/>
                                                                                                                                                    </a:lnSpc>
                                                                                                                                                    <a:tabLst>
                                                                                                                                                      <a:tab algn="l" pos="0"/>
                        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                        </a:tabLst>
                                                                                                                                                  </a:pPr>
                                                                                                                                                  <a:r>
                                                                                                                                                    <a:rPr b="0" lang="en-US" sz="1000" spc="-1" strike="noStrike">
  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              </a:rPr>
                                                                                                                                                    <a:t>Возрождение</a:t>
                                                                                                                                                  </a:r>
                                                                                                                                                  <a:endParaRPr b="0" lang="en-US" sz="1000" spc="-1" strike="noStrike">
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  <p:cNvPr id="383" name=""/>
  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  <a:off x="1763280" y="3428640"/>
                                                                                                                                                <a:ext cx="1028520" cy="307080"/>
  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  <a:prstGeom prst="rect">
  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<a:ln w="0">
  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  <a:spAutoFit/>
  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  <a:pPr algn="ctr">
                                                                                                                                                  <a:lnSpc>
                                                                                                                                                    <a:spcPct val="100000"/>
                                                                                                                                                  </a:lnSpc>
                                                                                                                                                  <a:tabLst>
                                                                                                                                                    <a:tab algn="l" pos="0"/>
                      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                      </a:tabLst>
                                                                                                                                                </a:pPr>
                                                                                                                                                <a:r>
                                                                                                                                                  <a:rPr b="1" lang="en-US" sz="1400" spc="-1" strike="noStrike">
  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            </a:rPr>
                                                                                                                                                  <a:t>Сызрань</a:t>
                                                                                                                                                </a:r>
                                                                                                                                                <a:endParaRPr b="0" lang="en-US" sz="1400" spc="-1" strike="noStrike">
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</p:grpSp>
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<p:cNvPr id="384" name=""/>
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    <a:off x="1834920" y="2852280"/>
                                                                                                                                              <a:ext cx="739440" cy="276480"/>
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<a:prstGeom prst="rect">
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<a:ln w="0">
    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    <a:spAutoFit/>
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<a:pPr algn="ctr">
                                                                                                                                                <a:lnSpc>
                                                                                                                                                  <a:spcPct val="100000"/>
                                                                                                                                                </a:lnSpc>
                                                                                                                                                <a:tabLst>
                                                                                                                                                  <a:tab algn="l" pos="0"/>
                    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                    </a:tabLst>
                                                                                                                                              </a:pPr>
                                                                                                                                              <a:r>
                                                                                                                                                <a:rPr b="1" lang="en-US" sz="1200" spc="-1" strike="noStrike" u="sng">
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<a:uFillTx/>
          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          </a:rPr>
                                                                                                                                                <a:t>№</a:t>
                                                                                                                                              </a:r>
                                                                                                                                              <a:r>
                                                                                                                                                <a:rPr b="1" lang="en-US" sz="1200" spc="-1" strike="noStrike" u="sng">
  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  <a:uFillTx/>
          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          </a:rPr>
                                                                                                                                                <a:t>26П</a:t>
                                                                                                                                              </a:r>
                                                                                                                                              <a:endParaRPr b="0" lang="en-US" sz="1200" spc="-1" strike="noStrike">
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</p:sp>
                                                                                                                                        <p:sp>
    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    <p:cNvPr id="385" name=""/>
    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    <p:spPr>
                                                                                                                                            <a:xfrm flipH="1">
                                                                                                                                              <a:off x="1834920" y="3068280"/>
                                                                                                                                              <a:ext cx="144000" cy="71280"/>
    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    </a:ln>
                                                                                                                                          </p:spPr>
    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    </p:style>
    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    <a:bodyPr lIns="90000" rIns="90000" tIns="24480" bIns="24480" anchor="t">
    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    </a:p>
                                                                                                                                          </p:txBody>
                                                                                                                                        </p:sp>
                                                                                                                                      </p:grpSp>
                                                                                                                                    </p:grpSp>
                                                                                                                                    <p:sp>
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<p:cNvPr id="386" name=""/>
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<p:spPr>
                                                                                                                                        <a:xfrm>
                                                                                                                                          <a:off x="1474560" y="1915920"/>
                                                                                                                                          <a:ext cx="668160" cy="276480"/>
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<a:prstGeom prst="rect">
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<a:ln w="0">
  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  </a:ln>
                                                                                                                                      </p:spPr>
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</p:style>
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<a:spAutoFit/>
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<a:pPr algn="ctr">
                                                                                                                                            <a:lnSpc>
                                                                                                                                              <a:spcPct val="100000"/>
                                                                                                                                            </a:lnSpc>
                                                                                                                                            <a:tabLst>
                                                                                                                                              <a:tab algn="l" pos="0"/>
                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                </a:tabLst>
                                                                                                                                          </a:pPr>
                                                                                                                                          <a:r>
                                                                                                                                            <a:rPr b="1" lang="en-US" sz="1200" spc="-1" strike="noStrike" u="sng">
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<a:uFillTx/>
      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      </a:rPr>
                                                                                                                                            <a:t>№</a:t>
                                                                                                                                          </a:r>
                                                                                                                                          <a:r>
                                                                                                                                            <a:rPr b="1" lang="en-US" sz="1200" spc="-1" strike="noStrike" u="sng">
  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  <a:uFillTx/>
      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      </a:rPr>
                                                                                                                                            <a:t>28П</a:t>
                                                                                                                                          </a:r>
                                                                                                                                          <a:endParaRPr b="0" lang="en-US" sz="1200" spc="-1" strike="noStrike">
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</a:p>
                                                                                                                                      </p:txBody>
                                                                                                                                    </p:sp>
                                                                                                                                    <p:sp>
                                                                                                                                      <p:nvSpPr>
                                                                                                                                        <p:cNvPr id="387" name=""/>
  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  <p:nvPr/>
                                                                                                                                      </p:nvSpPr>
                                                                                                                                      <p:spPr>
                                                                                                                                        <a:xfrm flipH="1">
                                                                                                                                          <a:off x="1474200" y="2131920"/>
                                                                                                                                          <a:ext cx="144360" cy="360360"/>
                                                                                                                                        </a:xfrm>
  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  </a:ln>
                                                                                                                                      </p:spPr>
                                                                                                                                      <p:style>
  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  </p:style>
                                                                                                                                      <p:txBody>
  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  <a:p>
  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  </a:p>
                                                                                                                                      </p:txBody>
                                                                                                                                    </p:sp>
                                                                                                                                  </p:grpSp>
                                                                                                                                  <p:sp>
                                                                                                                                    <p:nvSpPr>
                                                                                                                                      <p:cNvPr id="388" name=""/>
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<p:nvPr/>
                                                                                                                                    </p:nvSpPr>
                                                                                                                                    <p:spPr>
                                                                                                                                      <a:xfrm>
                                                                                                                                        <a:off x="394920" y="2852640"/>
                                                                                                                                        <a:ext cx="666720" cy="276480"/>
                                                                                                                                      </a:xfrm>
                                                                                                                                      <a:prstGeom prst="rect">
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<a:ln w="0">
                                                                                                                                        <a:noFill/>
                                                                                                                                      </a:ln>
                                                                                                                                    </p:spPr>
                                                                                                                                    <p:style>
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</p:style>
                                                                                                                                    <p:txBody>
  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  <a:spAutoFit/>
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<a:p>
                                                                                                                                        <a:pPr algn="ctr">
                                                                                                                                          <a:lnSpc>
                                                                                                                                            <a:spcPct val="100000"/>
                                                                                                                                          </a:lnSpc>
                                                                                                                                          <a:tabLst>
                                                                                                                                            <a:tab algn="l" pos="0"/>
              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              </a:tabLst>
                                                                                                                                        </a:pPr>
                                                                                                                                        <a:r>
                                                                                                                                          <a:rPr b="1" lang="en-US" sz="1200" spc="-1" strike="noStrike" u="sng">
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<a:uFillTx/>
    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    </a:rPr>
                                                                                                                                          <a:t>№</a:t>
                                                                                                                                        </a:r>
                                                                                                                                        <a:r>
                                                                                                                                          <a:rPr b="1" lang="en-US" sz="1200" spc="-1" strike="noStrike" u="sng">
  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  <a:uFillTx/>
    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    </a:rPr>
                                                                                                                                          <a:t>17П</a:t>
                                                                                                                                        </a:r>
                                                                                                                                        <a:endParaRPr b="0" lang="en-US" sz="1200" spc="-1" strike="noStrike">
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</a:p>
                                                                                                                                    </p:txBody>
                                                                                                                                  </p:sp>
                                                                                                                                  <p:sp>
                                                                                                                                    <p:nvSpPr>
                                                                                                                                      <p:cNvPr id="389" name=""/>
                                                                                                                                      <p:cNvSpPr/>
                                                                                                                                      <p:nvPr/>
                                                                                                                                    </p:nvSpPr>
                                                                                                                                    <p:spPr>
                                                                                                                                      <a:xfrm flipV="1">
                                                                                                                                        <a:off x="898200" y="2997000"/>
                                                                                                                                        <a:ext cx="289080" cy="71280"/>
                                                                                                                                      </a:xfrm>
  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  <a:avLst/>
                                                                                                                                      </a:prstGeom>
  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<a:miter/>
  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  </a:ln>
                                                                                                                                    </p:spPr>
                                                                                                                                    <p:style>
  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  </p:style>
                                                                                                                                    <p:txBody>
                                                                                                                                      <a:bodyPr lIns="90000" rIns="90000" tIns="24480" bIns="24480" anchor="t">
  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  </a:bodyPr>
                                                                                                                                      <a:p>
  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  </a:p>
                                                                                                                                    </p:txBody>
                                                                                                                                  </p:sp>
                                                                                                                                </p:grpSp>
                                                                                                                                <p:sp>
                                                                                                                                  <p:nvSpPr>
                                                                                                                                    <p:cNvPr id="390" name=""/>
                                                                                                                                    <p:cNvSpPr/>
                                                                                                                                    <p:nvPr/>
                                                                                                                                  </p:nvSpPr>
                                                                                                                                  <p:spPr>
                                                                                                                                    <a:xfrm>
                                                                                                                                      <a:off x="323640" y="3860640"/>
                                                                                                                                      <a:ext cx="718920" cy="276480"/>
                                                                                                                                    </a:xfrm>
                                                                                                                                    <a:prstGeom prst="rect">
                                                                                                                                      <a:avLst/>
                                                                                                                                    </a:prstGeom>
                                                                                                                                    <a:noFill/>
                                                                                                                                    <a:ln w="0">
                                                                                                                                      <a:noFill/>
                                                                                                                                    </a:ln>
                                                                                                                                  </p:spPr>
                                                                                                                                  <p:style>
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</p:style>
                                                                                                                                  <p:txBody>
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<a:spAutoFit/>
                                                                                                                                    </a:bodyPr>
                                                                                                                                    <a:p>
                                                                                                                                      <a:pPr algn="ctr">
                                                                                                                                        <a:lnSpc>
                                                                                                                                          <a:spcPct val="100000"/>
                                                                                                                                        </a:lnSpc>
                                                                                                                                        <a:tabLst>
                                                                                                                                          <a:tab algn="l" pos="0"/>
            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            </a:tabLst>
                                                                                                                                      </a:pPr>
                                                                                                                                      <a:r>
                                                                                                                                        <a:rPr b="1" lang="en-US" sz="1200" spc="-1" strike="noStrike" u="sng">
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<a:uFillTx/>
  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  </a:rPr>
                                                                                                                                        <a:t>№</a:t>
                                                                                                                                      </a:r>
                                                                                                                                      <a:r>
                                                                                                                                        <a:rPr b="1" lang="en-US" sz="1200" spc="-1" strike="noStrike" u="sng">
  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  <a:uFillTx/>
  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  </a:rPr>
                                                                                                                                        <a:t>20П</a:t>
                                                                                                                                      </a:r>
                                                                                                                                      <a:endParaRPr b="0" lang="en-US" sz="1200" spc="-1" strike="noStrike">
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</a:p>
                                                                                                                                  </p:txBody>
                                                                                                                                </p:sp>
                                                                                                                                <p:sp>
                                                                                                                                  <p:nvSpPr>
                                                                                                                                    <p:cNvPr id="391" name=""/>
                                                                                                                                    <p:cNvSpPr/>
                                                                                                                                    <p:nvPr/>
                                                                                                                                  </p:nvSpPr>
                                                                                                                                  <p:spPr>
                                                                                                                                    <a:xfrm flipV="1">
                                                                                                                                      <a:off x="898200" y="3715560"/>
                                                                                                                                      <a:ext cx="433440" cy="360360"/>
                                                                                                                                    </a:xfrm>
  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  <a:avLst/>
                                                                                                                                    </a:prstGeom>
                                                                                                                                    <a:ln w="9360">
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<a:miter/>
  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  </a:ln>
                                                                                                                                  </p:spPr>
                                                                                                                                  <p:style>
                                                                                                                                    <a:lnRef idx="0"/>
  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  </p:style>
                                                                                                                                  <p:txBody>
  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  <a:noAutofit/>
                                                                                                                                    </a:bodyPr>
                                                                                                                                    <a:p>
  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  </a:endParaRPr>
                                                                                                                                    </a:p>
                                                                                                                                  </p:txBody>
                                                                                                                                </p:sp>
                                                                                                                              </p:grpSp>
                                                                                                                              <p:sp>
                                                                                                                                <p:nvSpPr>
                                                                                                                                  <p:cNvPr id="392" name=""/>
                                                                                                                                  <p:cNvSpPr/>
                                                                                                                                  <p:nvPr/>
                                                                                                                                </p:nvSpPr>
                                                                                                                                <p:spPr>
                                                                                                                                  <a:xfrm>
                                                                                                                                    <a:off x="610920" y="4673520"/>
                                                                                                                                    <a:ext cx="863640" cy="276480"/>
                                                                                                                                  </a:xfrm>
                                                                                                                                  <a:prstGeom prst="rect">
                                                                                                                                    <a:avLst/>
                                                                                                                                  </a:prstGeom>
                                                                                                                                  <a:noFill/>
                                                                                                                                  <a:ln w="0">
                                                                                                                                    <a:noFill/>
                                                                                                                                  </a:ln>
                                                                                                                                </p:spPr>
                                                                                                                                <p:style>
                                                                                                                                  <a:lnRef idx="0"/>
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</p:style>
                                                                                                                                <p:txBody>
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<a:spAutoFit/>
                                                                                                                                  </a:bodyPr>
                                                                                                                                  <a:p>
                                                                                                                                    <a:pPr algn="ctr">
                                                                                                                                      <a:lnSpc>
                                                                                                                                        <a:spcPct val="100000"/>
                                                                                                                                      </a:lnSpc>
                                                                                                                                      <a:tabLst>
                                                                                                                                        <a:tab algn="l" pos="0"/>
          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          </a:tabLst>
                                                                                                                                    </a:pPr>
                                                                                                                                    <a:r>
                                                                                                                                      <a:rPr b="1" lang="en-US" sz="1200" spc="-1" strike="noStrike" u="sng">
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<a:uFillTx/>
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</a:rPr>
                                                                                                                                      <a:t>№</a:t>
                                                                                                                                    </a:r>
                                                                                                                                    <a:r>
                                                                                                                                      <a:rPr b="1" lang="en-US" sz="1200" spc="-1" strike="noStrike" u="sng">
  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  <a:uFillTx/>
  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  </a:rPr>
                                                                                                                                      <a:t>21П</a:t>
                                                                                                                                    </a:r>
                                                                                                                                    <a:endParaRPr b="0" lang="en-US" sz="1200" spc="-1" strike="noStrike">
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</a:endParaRPr>
                                                                                                                                  </a:p>
                                                                                                                                </p:txBody>
                                                                                                                              </p:sp>
                                                                                                                              <p:sp>
                                                                                                                                <p:nvSpPr>
                                                                                                                                  <p:cNvPr id="393" name=""/>
                                                                                                                                  <p:cNvSpPr/>
                                                                                                                                  <p:nvPr/>
                                                                                                                                </p:nvSpPr>
                                                                                                                                <p:spPr>
                                                                                                                                  <a:xfrm>
                                                                                                                                    <a:off x="1258560" y="4868640"/>
                                                                                                                                    <a:ext cx="216000" cy="216000"/>
                                                                                                                                  </a:xfrm>
                                                                                                                                  <a:prstGeom prst="line">
                                                                                                                                    <a:avLst/>
                                                                                                                                  </a:prstGeom>
                                                                                                                                  <a:ln w="9360">
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</a:solidFill>
                                                                                                                                    <a:miter/>
      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      </a:ln>
                                                                                                                                </p:spPr>
                                                                                                                                <p:style>
                                                                                                                                  <a:lnRef idx="0"/>
                                                                                                                                  <a:fillRef idx="0"/>
                                                                                                                                  <a:effectRef idx="0"/>
                                                                                                                                  <a:fontRef idx="minor"/>
                                                                                                                                </p:style>
                                                                                                                                <p:txBody>
  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  <a:noAutofit/>
                                                                                                                                  </a:bodyPr>
                                                                                                                                  <a:p>
      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  </a:endParaRPr>
                                                                                                                                  </a:p>
                                                                                                                                </p:txBody>
                                                                                                                              </p:sp>
                                                                                                                            </p:grpSp>
                                                                                                                            <p:sp>
                                                                                                                              <p:nvSpPr>
                                                                                                                                <p:cNvPr id="394" name=""/>
                                                                                                                                <p:cNvSpPr/>
                                                                                                                                <p:nvPr/>
                                                                                                                              </p:nvSpPr>
                                                                                                                              <p:spPr>
                                                                                                                                <a:xfrm>
                                                                                                                                  <a:off x="3203640" y="2420640"/>
                                                                                                                                  <a:ext cx="1150920" cy="307080"/>
                                                                                                                                </a:xfrm>
                                                                                                                                <a:prstGeom prst="rect">
                                                                                                                                  <a:avLst/>
                                                                                                                                </a:prstGeom>
                                                                                                                                <a:noFill/>
                                                                                                                                <a:ln w="0">
                                                                                                                                  <a:noFill/>
                                                                                                                                </a:ln>
                                                                                                                              </p:spPr>
                                                                                                                              <p:style>
                                                                                                                                <a:lnRef idx="0"/>
                                                                                                                                <a:fillRef idx="0"/>
                                                                                                                                <a:effectRef idx="0"/>
                                                                                                                                <a:fontRef idx="minor"/>
                                                                                                                              </p:style>
                                                                                                                              <p:txBody>
  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  <a:spAutoFit/>
                                                                                                                                </a:bodyPr>
                                                                                                                                <a:p>
                                                                                                                                  <a:pPr algn="ctr">
                                                                                                                                    <a:lnSpc>
                                                                                                                                      <a:spcPct val="100000"/>
                                                                                                                                    </a:lnSpc>
                                                                                                                                    <a:tabLst>
                                                                                                                                      <a:tab algn="l" pos="0"/>
        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        </a:tabLst>
                                                                                                                                  </a:pPr>
                                                                                                                                  <a:r>
                                                                                                                                    <a:rPr b="1" lang="en-US" sz="1400" spc="-1" strike="noStrike">
  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  </a:solidFill>
  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  </a:rPr>
                                                                                                                                    <a:t>Тольятти</a:t>
                                                                                                                                  </a:r>
                                                                                                                                  <a:endParaRPr b="0" lang="en-US" sz="1400" spc="-1" strike="noStrike">
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</a:solidFill>
  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  </a:endParaRPr>
                                                                                                                                </a:p>
                                                                                                                              </p:txBody>
                                                                                                                            </p:sp>
                                                                                                                          </p:grpSp>
                                                                                                                          <p:sp>
                                                                                                                            <p:nvSpPr>
                                                                                                                              <p:cNvPr id="395" name=""/>
                                                                                                                              <p:cNvSpPr/>
                                                                                                                              <p:nvPr/>
                                                                                                                            </p:nvSpPr>
                                                                                                                            <p:spPr>
                                                                                                                              <a:xfrm>
                                                                                                                                <a:off x="1979640" y="1628640"/>
                                                                                                                                <a:ext cx="1152360" cy="246240"/>
                                                                                                                              </a:xfrm>
                                                                                                                              <a:prstGeom prst="rect">
                                                                                                                                <a:avLst/>
                                                                                                                              </a:prstGeom>
                                                                                                                              <a:noFill/>
                                                                                                                              <a:ln w="0">
                                                                                                                                <a:noFill/>
                                                                                                                              </a:ln>
                                                                                                                            </p:spPr>
                                                                                                                            <p:style>
                                                                                                                              <a:lnRef idx="0"/>
                                                                                                                              <a:fillRef idx="0"/>
                                                                                                                              <a:effectRef idx="0"/>
                                                                                                                              <a:fontRef idx="minor"/>
                                                                                                                            </p:style>
                                                                                                                            <p:txBody>
  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  <a:spAutoFit/>
                                                                                                                              </a:bodyPr>
                                                                                                                              <a:p>
                                                                                                                                <a:pPr algn="ctr">
                                                                                                                                  <a:lnSpc>
                                                                                                                                    <a:spcPct val="100000"/>
                                                                                                                                  </a:lnSpc>
                                                                                                                                  <a:tabLst>
                                                                                                                                    <a:tab algn="l" pos="0"/>
      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      </a:tabLst>
                                                                                                                                </a:pPr>
                                                                                                                                <a:r>
                                                                                                                                  <a:rPr b="0" lang="en-US" sz="1000" spc="-1" strike="noStrike">
                                                                                                                                    <a:solidFill>
  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  </a:solidFill>
  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  </a:rPr>
                                                                                                                                  <a:t>Ягодное</a:t>
                                                                                                                                </a:r>
                                                                                                                                <a:endParaRPr b="0" lang="en-US" sz="1000" spc="-1" strike="noStrike">
                                                                                                                                  <a:solidFill>
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</a:solidFill>
  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  </a:endParaRPr>
                                                                                                                              </a:p>
                                                                                                                            </p:txBody>
                                                                                                                          </p:sp>
                                                                                                                        </p:grpSp>
                                                                                                                        <p:sp>
                                                                                                                          <p:nvSpPr>
                                                                                                                            <p:cNvPr id="396" name=""/>
                                                                                                                            <p:cNvSpPr/>
                                                                                                                            <p:nvPr/>
                                                                                                                          </p:nvSpPr>
                                                                                                                          <p:spPr>
                                                                                                                            <a:xfrm>
                                                                                                                              <a:off x="2843280" y="1701720"/>
                                                                                                                              <a:ext cx="865080" cy="276480"/>
                                                                                                                            </a:xfrm>
                                                                                                                            <a:prstGeom prst="rect">
                                                                                                                              <a:avLst/>
                                                                                                                            </a:prstGeom>
                                                                                                                            <a:noFill/>
                                                                                                                            <a:ln w="0">
                                                                                                                              <a:noFill/>
                                                                                                                            </a:ln>
                                                                                                                          </p:spPr>
                                                                                                                          <p:style>
                                                                                                                            <a:lnRef idx="0"/>
                                                                                                                            <a:fillRef idx="0"/>
                                                                                                                            <a:effectRef idx="0"/>
                                                                                                                            <a:fontRef idx="minor"/>
                                                                                                                          </p:style>
                                                                                                                          <p:txBody>
  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  <a:spAutoFit/>
                                                                                                                            </a:bodyPr>
                                                                                                                            <a:p>
                                                                                                                              <a:pPr algn="ctr">
                                                                                                                                <a:lnSpc>
                                                                                                                                  <a:spcPct val="100000"/>
                                                                                                                                </a:lnSpc>
                                                                                                                                <a:tabLst>
                                                                                                                                  <a:tab algn="l" pos="0"/>
    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    </a:tabLst>
                                                                                                                              </a:pPr>
                                                                                                                              <a:r>
                                                                                                                                <a:rPr b="1" lang="en-US" sz="1200" spc="-1" strike="noStrike" u="sng">
                                                                                                                                  <a:solidFill>
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</a:solidFill>
                                                                                                                                  <a:uFillTx/>
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</a:rPr>
                                                                                                                                <a:t>№</a:t>
                                                                                                                              </a:r>
                                                                                                                              <a:r>
                                                                                                                                <a:rPr b="1" lang="en-US" sz="1200" spc="-1" strike="noStrike" u="sng">
                                                                                                                                  <a:solidFill>
  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  </a:solidFill>
                                                                                                                                  <a:uFillTx/>
  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  </a:rPr>
                                                                                                                                <a:t>31П</a:t>
                                                                                                                              </a:r>
                                                                                                                              <a:endParaRPr b="0" lang="en-US" sz="1200" spc="-1" strike="noStrike">
                                                                                                                                <a:solidFill>
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</a:solidFill>
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</a:endParaRPr>
                                                                                                                            </a:p>
                                                                                                                          </p:txBody>
                                                                                                                        </p:sp>
                                                                                                                        <p:sp>
                                                                                                                          <p:nvSpPr>
                                                                                                                            <p:cNvPr id="397" name=""/>
                                                                                                                            <p:cNvSpPr/>
                                                                                                                            <p:nvPr/>
                                                                                                                          </p:nvSpPr>
                                                                                                                          <p:spPr>
                                                                                                                            <a:xfrm flipH="1">
                                                                                                                              <a:off x="2916000" y="1917360"/>
                                                                                                                              <a:ext cx="142920" cy="71640"/>
                                                                                                                            </a:xfrm>
                                                                                                                            <a:prstGeom prst="line">
                                                                                                                              <a:avLst/>
                                                                                                                            </a:prstGeom>
                                                                                                                            <a:ln w="9360">
                                                                                                                              <a:solidFill>
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</a:solidFill>
                                                                                                                              <a:miter/>
      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      </a:ln>
                                                                                                                          </p:spPr>
                                                                                                                          <p:style>
                                                                                                                            <a:lnRef idx="0"/>
                                                                                                                            <a:fillRef idx="0"/>
                                                                                                                            <a:effectRef idx="0"/>
                                                                                                                            <a:fontRef idx="minor"/>
                                                                                                                          </p:style>
                                                                                                                          <p:txBody>
                                                                                                                            <a:bodyPr lIns="90000" rIns="90000" tIns="24840" bIns="24840" anchor="t">
                                                                                                                              <a:noAutofit/>
                                                                                                                            </a:bodyPr>
                                                                                                                            <a:p>
      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      <a:solidFill>
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</a:solidFill>
                                                                                                                                <a:latin typeface="Arial"/>
                                                                                                                              </a:endParaRPr>
                                                                                                                            </a:p>
                                                                                                                          </p:txBody>
                                                                                                                        </p:sp>
                                                                                                                      </p:grpSp>
                                                                                                                      <p:sp>
                                                                                                                        <p:nvSpPr>
                                                                                                                          <p:cNvPr id="398" name=""/>
                                                                                                                          <p:cNvSpPr/>
                                                                                                                          <p:nvPr/>
                                                                                                                        </p:nvSpPr>
                                                                                                                        <p:spPr>
                                                                                                                          <a:xfrm>
                                                                                                                            <a:off x="2843280" y="1341360"/>
                                                                                                                            <a:ext cx="1008000" cy="246240"/>
                                                                                                                          </a:xfrm>
                                                                                                                          <a:prstGeom prst="rect">
                                                                                                                            <a:avLst/>
                                                                                                                          </a:prstGeom>
                                                                                                                          <a:noFill/>
                                                                                                                          <a:ln w="0">
                                                                                                                            <a:noFill/>
                                                                                                                          </a:ln>
                                                                                                                        </p:spPr>
                                                                                                                        <p:style>
                                                                                                                          <a:lnRef idx="0"/>
                                                                                                                          <a:fillRef idx="0"/>
                                                                                                                          <a:effectRef idx="0"/>
                                                                                                                          <a:fontRef idx="minor"/>
                                                                                                                        </p:style>
                                                                                                                        <p:txBody>
  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  <a:spAutoFit/>
                                                                                                                          </a:bodyPr>
                                                                                                                          <a:p>
                                                                                                                            <a:pPr algn="ctr">
                                                                                                                              <a:lnSpc>
                                                                                                                                <a:spcPct val="100000"/>
                                                                                                                              </a:lnSpc>
                                                                                                                              <a:tabLst>
                                                                                                                                <a:tab algn="l" pos="0"/>
  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  </a:tabLst>
                                                                                                                            </a:pPr>
                                                                                                                            <a:r>
                                                                                                                              <a:rPr b="0" lang="en-US" sz="1000" spc="-1" strike="noStrike">
                                                                                                                                <a:solidFill>
  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  </a:solidFill>
  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  </a:rPr>
                                                                                                                              <a:t>Н.Санчелеево</a:t>
                                                                                                                            </a:r>
                                                                                                                            <a:endParaRPr b="0" lang="en-US" sz="1000" spc="-1" strike="noStrike">
                                                                                                                              <a:solidFill>
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</a:solidFill>
                                                                                                                              <a:latin typeface="Arial"/>
                                                                                                                            </a:endParaRPr>
                                                                                                                          </a:p>
                                                                                                                        </p:txBody>
                                                                                                                      </p:sp>
                                                                                                                    </p:grpSp>
                                                                                                                    <p:sp>
                                                                                                                      <p:nvSpPr>
                                                                                                                        <p:cNvPr id="399" name=""/>
                                                                                                                        <p:cNvSpPr/>
                                                                                                                        <p:nvPr/>
                                                                                                                      </p:nvSpPr>
                                                                                                                      <p:spPr>
                                                                                                                        <a:xfrm>
                                                                                                                          <a:off x="3635280" y="765000"/>
                                                                                                                          <a:ext cx="1171800" cy="246240"/>
                                                                                                                        </a:xfrm>
                                                                                                                        <a:prstGeom prst="rect">
                                                                                                                          <a:avLst/>
                                                                                                                        </a:prstGeom>
                                                                                                                        <a:noFill/>
                                                                                                                        <a:ln w="0">
                                                                                                                          <a:noFill/>
                                                                                                                        </a:ln>
                                                                                                                      </p:spPr>
                                                                                                                      <p:style>
                                                                                                                        <a:lnRef idx="0"/>
                                                                                                                        <a:fillRef idx="0"/>
                                                                                                                        <a:effectRef idx="0"/>
                                                                                                                        <a:fontRef idx="minor"/>
                                                                                                                      </p:style>
                                                                                                                      <p:txBody>
  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  <a:spAutoFit/>
                                                                                                                        </a:bodyPr>
                                                                                                                        <a:p>
                                                                                                                          <a:pPr algn="ctr">
                                                                                                                            <a:lnSpc>
                                                                                                                              <a:spcPct val="100000"/>
                                                                                                                            </a:lnSpc>
                                                                                                                            <a:tabLst>
                                                                                                                              <a:tab algn="l" pos="0"/>
                                                                                                                              <a:tab algn="l" pos="914400"/>
  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  <a:tab algn="l" pos="10058400"/>
                                                                                                                            </a:tabLst>
                                                                                                                          </a:pPr>
                                                                                                                          <a:r>
                                                                                                                            <a:rPr b="0" lang="en-US" sz="1000" spc="-1" strike="noStrike">
                                                                                                                              <a:solidFill>
                                                                                                                                <a:srgbClr val="ffffff"/>
                                                                                                                              </a:solidFill>
  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  </a:rPr>
                                                                                                                            <a:t>В.Санчелеево</a:t>
                                                                                                                          </a:r>
                                                                                                                          <a:endParaRPr b="0" lang="en-US" sz="1000" spc="-1" strike="noStrike">
                                                                                                                            <a:solidFill>
                                                                                                                              <a:srgbClr val="ffffff"/>
                                                                                                                            </a:solidFill>
                                                                                                                            <a:latin typeface="Arial"/>
                                                                                                                          </a:endParaRPr>
                                                                                                                        </a:p>
                                                                                                                      </p:txBody>
                                                                                                                    </p:sp>
                                                                                                                  </p:grpSp>
                                                                                                                  <p:sp>
                                                                                                                    <p:nvSpPr>
                                                                                                                      <p:cNvPr id="400" name=""/>
                                                                                                                      <p:cNvSpPr/>
                                                                                                                      <p:nvPr/>
                                                                                                                    </p:nvSpPr>
                                                                                                                    <p:spPr>
                                                                                                                      <a:xfrm>
                                                                                                                        <a:off x="3708360" y="1125360"/>
                                                                                                                        <a:ext cx="884160" cy="276480"/>
                                                                                                                      </a:xfrm>
                                                                                                                      <a:prstGeom prst="rect">
                                                                                                                        <a:avLst/>
                                                                                                                      </a:prstGeom>
                                                                                                                      <a:noFill/>
                                                                                                                      <a:ln w="0">
                                                                                                                        <a:noFill/>
                                                                                                                      </a:ln>
                                                                                                                    </p:spPr>
                                                                                                                    <p:style>
                                                                                                                      <a:lnRef idx="0"/>
                                                                                                                      <a:fillRef idx="0"/>
                                                                                                                      <a:effectRef idx="0"/>
                                                                                                                      <a:fontRef idx="minor"/>
                                                                                                                    </p:style>
                                                                                                                    <p:txBody>
  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  <a:spAutoFit/>
                                                                                                                      </a:bodyPr>
                                                                                                                      <a:p>
                                                                                                                        <a:pPr algn="ctr">
                                                                                                                          <a:lnSpc>
                                                                                                                            <a:spcPct val="100000"/>
                                                                                                                          </a:lnSpc>
                                                                                                                          <a:tabLst>
                                                                                                                            <a:tab algn="l" pos="0"/>
                                                                                                                            <a:tab algn="l" pos="914400"/>
                                                                                                                            <a:tab algn="l" pos="1828800"/>
                                                                                                                            <a:tab algn="l" pos="2743200"/>
                                                                                                                            <a:tab algn="l" pos="3657600"/>
                                                                                                                            <a:tab algn="l" pos="4572000"/>
                                                                                                                            <a:tab algn="l" pos="5486400"/>
                                                                                                                            <a:tab algn="l" pos="6400800"/>
                                                                                                                            <a:tab algn="l" pos="7315200"/>
                                                                                                                            <a:tab algn="l" pos="8229600"/>
                                                                                                                            <a:tab algn="l" pos="9144000"/>
                                                                                                                            <a:tab algn="l" pos="10058400"/>
                                                                                                                          </a:tabLst>
                                                                                                                        </a:pPr>
                                                                                                                        <a:r>
                                                                                                                          <a:rPr b="1" lang="en-US" sz="1200" spc="-1" strike="noStrike">
                                                                                                                            <a:solidFill>
                                                                                                                              <a:srgbClr val="ffffff"/>
                                                                                                                            </a:solidFill>
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</a:rPr>
                                                                                                                          <a:t>№</a:t>
                                                                                                                        </a:r>
                                                                                                                        <a:r>
                                                                                                                          <a:rPr b="1" lang="en-US" sz="1200" spc="-1" strike="noStrike">
                                                                                                                            <a:solidFill>
                                                                                                                              <a:srgbClr val="ffffff"/>
                                                                                                                            </a:solidFill>
  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  </a:rPr>
                                                                                                                          <a:t>29П</a:t>
                                                                                                                        </a:r>
                                                                                                                        <a:endParaRPr b="0" lang="en-US" sz="1200" spc="-1" strike="noStrike">
                                                                                                                          <a:solidFill>
                                                                                                                            <a:srgbClr val="ffffff"/>
                                                                                                                          </a:solidFill>
                                                                                                                          <a:latin typeface="Arial"/>
                                                                                                                        </a:endParaRPr>
                                                                                                                      </a:p>
                                                                                                                    </p:txBody>
                                                                                                                  </p:sp>
                                                                                                                  <p:sp>
                                                                                                                    <p:nvSpPr>
                                                                                                                      <p:cNvPr id="401" name=""/>
                                                                                                                      <p:cNvSpPr/>
                                                                                                                      <p:nvPr/>
                                                                                                                    </p:nvSpPr>
                                                                                                                    <p:spPr>
                                                                                                                      <a:xfrm flipH="1">
                                                                                                                        <a:off x="3851280" y="1341360"/>
                                                                                                                        <a:ext cx="504720" cy="0"/>
                                                                                                                      </a:xfrm>
                                                                                                                      <a:prstGeom prst="line">
                                                                                                                        <a:avLst/>
                                                                                                                      </a:prstGeom>
                                                                                                                      <a:ln w="9360">
                                                                                                                        <a:solidFill>
                                                                                                                          <a:srgbClr val="ffffff"/>
                                                                                                                        </a:solidFill>
                                                                                                                        <a:miter/>
  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  </a:ln>
                                                                                                                    </p:spPr>
                                                                                                                    <p:style>
                                                                                                                      <a:lnRef idx="0"/>
                                                                                                                      <a:fillRef idx="0"/>
                                                                                                                      <a:effectRef idx="0"/>
                                                                                                                      <a:fontRef idx="minor"/>
                                                                                                                    </p:style>
                                                                                                                    <p:txBody>
                                                                                                                      <a:bodyPr lIns="90000" rIns="90000" tIns="-46800" bIns="-46800" anchor="t">
                                                                                                                        <a:noAutofit/>
                                                                                                                      </a:bodyPr>
                                                                                                                      <a:p>
  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  <a:solidFill>
                                                                                                                            <a:srgbClr val="ffffff"/>
                                                                                                                          </a:solidFill>
                                                                                                                          <a:latin typeface="Arial"/>
                                                                                                                        </a:endParaRPr>
                                                                                                                      </a:p>
                                                                                                                    </p:txBody>
                                                                                                                  </p:sp>
                                                                                                                </p:grpSp>
                                                                                                                <p:sp>
                                                                                                                  <p:nvSpPr>
                                                                                                                    <p:cNvPr id="402" name=""/>
                                                                                                                    <p:cNvSpPr/>
                                                                                                                    <p:nvPr/>
                                                                                                                  </p:nvSpPr>
                                                                                                                  <p:spPr>
                                                                                                                    <a:xfrm>
                                                                                                                      <a:off x="4048200" y="1363320"/>
                                                                                                                      <a:ext cx="668160" cy="276480"/>
                                                                                                                    </a:xfrm>
                                                                                                                    <a:prstGeom prst="rect">
                                                                                                                      <a:avLst/>
                                                                                                                    </a:prstGeom>
                                                                                                                    <a:noFill/>
                                                                                                                    <a:ln w="0">
                                                                                                                      <a:noFill/>
                                                                                                                    </a:ln>
                                                                                                                  </p:spPr>
                                                                                                                  <p:style>
                                                                                                                    <a:lnRef idx="0"/>
                                                                                                                    <a:fillRef idx="0"/>
                                                                                                                    <a:effectRef idx="0"/>
                                                                                                                    <a:fontRef idx="minor"/>
                                                                                                                  </p:style>
                                                                                                                  <p:txBody>
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<a:spAutoFit/>
                                                                                                                    </a:bodyPr>
                                                                                                                    <a:p>
                                                                                                                      <a:pPr algn="ctr">
                                                                                                                        <a:lnSpc>
                                                                                                                          <a:spcPct val="100000"/>
                                                                                                                        </a:lnSpc>
                                                                                                                        <a:tabLst>
                                                                                                                          <a:tab algn="l" pos="0"/>
                                                                                                                          <a:tab algn="l" pos="914400"/>
                                                                                                                          <a:tab algn="l" pos="1828800"/>
                                                                                                                          <a:tab algn="l" pos="2743200"/>
                                                                                                                          <a:tab algn="l" pos="3657600"/>
                                                                                                                          <a:tab algn="l" pos="4572000"/>
                                                                                                                          <a:tab algn="l" pos="5486400"/>
                                                                                                                          <a:tab algn="l" pos="6400800"/>
                                                                                                                          <a:tab algn="l" pos="7315200"/>
                                                                                                                          <a:tab algn="l" pos="8229600"/>
                                                                                                                          <a:tab algn="l" pos="9144000"/>
                                                                                                                          <a:tab algn="l" pos="10058400"/>
                                                                                                                        </a:tabLst>
                                                                                                                      </a:pPr>
                                                                                                                      <a:r>
                                                                                                                        <a:rPr b="1" lang="en-US" sz="1200" spc="-1" strike="noStrike" u="sng">
                                                                                                                          <a:solidFill>
                                                                                                                            <a:srgbClr val="ffffff"/>
                                                                                                                          </a:solidFill>
                                                                                                                          <a:uFillTx/>
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</a:rPr>
                                                                                                                        <a:t>№</a:t>
                                                                                                                      </a:r>
                                                                                                                      <a:r>
                                                                                                                        <a:rPr b="1" lang="en-US" sz="1200" spc="-1" strike="noStrike" u="sng">
                                                                                                                          <a:solidFill>
                                                                                                                            <a:srgbClr val="ffffff"/>
                                                                                                                          </a:solidFill>
                                                                                                                          <a:uFillTx/>
                                                                                                                          <a:latin typeface="Times New Roman"/>
                                                                                                                        </a:rPr>
                                                                                                                        <a:t>32П</a:t>
                                                                                                                      </a:r>
                                                                                                                      <a:endParaRPr b="0" lang="en-US" sz="1200" spc="-1" strike="noStrike">
                                                                                                                        <a:solidFill>
                                                                                                                          <a:srgbClr val="ffffff"/>
                                                                                                                        </a:solidFill>
                                                                                                                        <a:latin typeface="Arial"/>
                                                                                                                      </a:endParaRPr>
                                                                                                                    </a:p>
                                                                                                                  </p:txBody>
                                                                                                                </p:sp>
                                                                                                                <p:sp>
                                                                                                                  <p:nvSpPr>
                                                                                                                    <p:cNvPr id="403" name=""/>
                                                                                                                    <p:cNvSpPr/>
                                                                                                                    <p:nvPr/>
                                                                                                                  </p:nvSpPr>
                                                                                                                  <p:spPr>
                                                                                                                    <a:xfrm>
                                                                                                                      <a:off x="4572000" y="1557000"/>
                                                                                                                      <a:ext cx="71280" cy="215640"/>
                                                                                                                    </a:xfrm>
                                                                                                                    <a:prstGeom prst="line">
                                                                                                                      <a:avLst/>
                                                                                                                    </a:prstGeom>
                                                                                                                    <a:ln w="9360">
                                                                                                                      <a:solidFill>
                                                                                                                        <a:srgbClr val="ffffff"/>
                                                                                                                      </a:solidFill>
                                                                                                                      <a:miter/>
                                                                                                                      <a:tailEnd len="med" type="triangle" w="med"/>
                                                                                                                    </a:ln>
                                                                                                                  </p:spPr>
                                                                                                                  <p:style>
                                                                                                                    <a:lnRef idx="0"/>
                                                                                                                    <a:fillRef idx="0"/>
                                                                                                                    <a:effectRef idx="0"/>
                                                                                                                    <a:fontRef idx="minor"/>
                                                                                                                  </p:style>
                                                                                                                  <p:txBody>
  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  <a:noAutofit/>
                                                                                                                    </a:bodyPr>
                                                                                                                    <a:p>
      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      <a:solidFill>
                                                                                                                          <a:srgbClr val="ffffff"/>
                                                                                                                        </a:solidFill>
                                                                                                                        <a:latin typeface="Arial"/>
                                                                                                                      </a:endParaRPr>
                                                                                                                    </a:p>
                                                                                                                  </p:txBody>
                                                                                                                </p:sp>
                                                                                                              </p:grpSp>
                                                                                                              <p:sp>
                                                                                                                <p:nvSpPr>
                                                                                                                  <p:cNvPr id="404" name=""/>
                                                                                                                  <p:cNvSpPr/>
                                                                                                                  <p:nvPr/>
                                                                                                                </p:nvSpPr>
                                                                                                                <p:spPr>
                                                                                                                  <a:xfrm>
                                                                                                                    <a:off x="5076720" y="1198080"/>
                                                                                                                    <a:ext cx="884520" cy="246240"/>
                                                                                                                  </a:xfrm>
                                                                                                                  <a:prstGeom prst="rect">
                                                                                                                    <a:avLst/>
                                                                                                                  </a:prstGeom>
                                                                                                                  <a:noFill/>
                                                                                                                  <a:ln w="0">
                                                                                                                    <a:noFill/>
                                                                                                                  </a:ln>
                                                                                                                </p:spPr>
                                                                                                                <p:style>
                                                                                                                  <a:lnRef idx="0"/>
                                                                                                                  <a:fillRef idx="0"/>
                                                                                                                  <a:effectRef idx="0"/>
                                                                                                                  <a:fontRef idx="minor"/>
                                                                                                                </p:style>
                                                                                                                <p:txBody>
  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  <a:spAutoFit/>
                                                                                                                  </a:bodyPr>
                                                                                                                  <a:p>
                                                                                                                    <a:pPr algn="ctr">
                                                                                                                      <a:lnSpc>
                                                                                                                        <a:spcPct val="100000"/>
                                                                                                                      </a:lnSpc>
                                                                                                                      <a:tabLst>
                                                                                                                        <a:tab algn="l" pos="0"/>
                                                                                                                        <a:tab algn="l" pos="914400"/>
                                                                                                                        <a:tab algn="l" pos="1828800"/>
                                                                                                                        <a:tab algn="l" pos="2743200"/>
                                                                                                                        <a:tab algn="l" pos="3657600"/>
                                                                                                                        <a:tab algn="l" pos="4572000"/>
                                                                                                                        <a:tab algn="l" pos="5486400"/>
                                                                                                                        <a:tab algn="l" pos="6400800"/>
                                                                                                                        <a:tab algn="l" pos="7315200"/>
                                                                                                                        <a:tab algn="l" pos="8229600"/>
                                                                                                                        <a:tab algn="l" pos="9144000"/>
                                                                                                                        <a:tab algn="l" pos="10058400"/>
                                                                                                                      </a:tabLst>
                                                                                                                    </a:pPr>
                                                                                                                    <a:r>
                                                                                                                      <a:rPr b="0" lang="en-US" sz="1000" spc="-1" strike="noStrike">
                                                                                                                        <a:solidFill>
                                                                                                                          <a:srgbClr val="ffffff"/>
                                                                                                                        </a:solidFill>
                                                                                                                        <a:latin typeface="Times New Roman"/>
                                                                                                                      </a:rPr>
                                                                                                                      <a:t>Узюклвл</a:t>
                                                                                                                    </a:r>
                                                                                                                    <a:endParaRPr b="0" lang="en-US" sz="1000" spc="-1" strike="noStrike">
                                                                                                                      <a:solidFill>
                                                                                                                        <a:srgbClr val="ffffff"/>
                                                                                                                      </a:solidFill>
                                                                                                                      <a:latin typeface="Arial"/>
                                                                                                                    </a:endParaRPr>
                                                                                                                  </a:p>
                                                                                                                </p:txBody>
                                                                                                              </p:sp>
                                                                                                            </p:grpSp>
                                                                                                            <p:sp>
                                                                                                              <p:nvSpPr>
                                                                                                                <p:cNvPr id="405" name=""/>
                                                                                                                <p:cNvSpPr/>
                                                                                                                <p:nvPr/>
                                                                                                              </p:nvSpPr>
                                                                                                              <p:spPr>
                                                                                                                <a:xfrm>
                                                                                                                  <a:off x="5076720" y="1701360"/>
                                                                                                                  <a:ext cx="1027080" cy="246240"/>
                                                                                                                </a:xfrm>
                                                                                                                <a:prstGeom prst="rect">
                                                                                                                  <a:avLst/>
                                                                                                                </a:prstGeom>
                                                                                                                <a:noFill/>
                                                                                                                <a:ln w="0">
                                                                                                                  <a:noFill/>
                                                                                                                </a:ln>
                                                                                                              </p:spPr>
                                                                                                              <p:style>
                                                                                                                <a:lnRef idx="0"/>
                                                                                                                <a:fillRef idx="0"/>
                                                                                                                <a:effectRef idx="0"/>
                                                                                                                <a:fontRef idx="minor"/>
                                                                                                              </p:style>
                                                                                                              <p:txBody>
  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  <a:spAutoFit/>
                                                                                                                </a:bodyPr>
                                                                                                                <a:p>
                                                                                                                  <a:pPr algn="ctr">
                                                                                                                    <a:lnSpc>
                                                                                                                      <a:spcPct val="100000"/>
                                                                                                                    </a:lnSpc>
                                                                                                                    <a:tabLst>
                                                                                                                      <a:tab algn="l" pos="0"/>
                                                                                                                      <a:tab algn="l" pos="914400"/>
                                                                                                                      <a:tab algn="l" pos="1828800"/>
                                                                                                                      <a:tab algn="l" pos="2743200"/>
                                                                                                                      <a:tab algn="l" pos="3657600"/>
                                                                                                                      <a:tab algn="l" pos="4572000"/>
                                                                                                                      <a:tab algn="l" pos="5486400"/>
                                                                                                                      <a:tab algn="l" pos="6400800"/>
                                                                                                                      <a:tab algn="l" pos="7315200"/>
                                                                                                                      <a:tab algn="l" pos="8229600"/>
                                                                                                                      <a:tab algn="l" pos="9144000"/>
                                                                                                                      <a:tab algn="l" pos="10058400"/>
                                                                                                                    </a:tabLst>
                                                                                                                  </a:pPr>
                                                                                                                  <a:r>
                                                                                                                    <a:rPr b="0" lang="en-US" sz="1000" spc="-1" strike="noStrike">
                                                                                                                      <a:solidFill>
                                                                                                                        <a:srgbClr val="ffffff"/>
                                                                                                                      </a:solidFill>
                                                                                                                      <a:latin typeface="Times New Roman"/>
                                                                                                                    </a:rPr>
                                                                                                                    <a:t>Поволжский</a:t>
                                                                                                                  </a:r>
                                                                                                                  <a:endParaRPr b="0" lang="en-US" sz="1000" spc="-1" strike="noStrike">
                                                                                                                    <a:solidFill>
                                                                                                                      <a:srgbClr val="ffffff"/>
                                                                                                                    </a:solidFill>
                                                                                                                    <a:latin typeface="Arial"/>
                                                                                                                  </a:endParaRPr>
                                                                                                                </a:p>
                                                                                                              </p:txBody>
                                                                                                            </p:sp>
                                                                                                          </p:grpSp>
                                                                                                          <p:sp>
                                                                                                            <p:nvSpPr>
                                                                                                              <p:cNvPr id="406" name=""/>
                                                                                                              <p:cNvSpPr/>
                                                                                                              <p:nvPr/>
                                                                                                            </p:nvSpPr>
                                                                                                            <p:spPr>
                                                                                                              <a:xfrm>
                                                                                                                <a:off x="4284720" y="2277720"/>
                                                                                                                <a:ext cx="668160" cy="276480"/>
                                                                                                              </a:xfrm>
                                                                                                              <a:prstGeom prst="rect">
                                                                                                                <a:avLst/>
                                                                                                              </a:prstGeom>
                                                                                                              <a:noFill/>
                                                                                                              <a:ln w="0">
                                                                                                                <a:noFill/>
                                                                                                              </a:ln>
                                                                                                            </p:spPr>
                                                                                                            <p:style>
                                                                                                              <a:lnRef idx="0"/>
                                                                                                              <a:fillRef idx="0"/>
                                                                                                              <a:effectRef idx="0"/>
                                                                                                              <a:fontRef idx="minor"/>
                                                                                                            </p:style>
                                                                                                            <p:txBody>
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<a:spAutoFit/>
                                                                                                              </a:bodyPr>
                                                                                                              <a:p>
                                                                                                                <a:pPr algn="ctr">
                                                                                                                  <a:lnSpc>
                                                                                                                    <a:spcPct val="100000"/>
                                                                                                                  </a:lnSpc>
                                                                                                                  <a:tabLst>
                                                                                                                    <a:tab algn="l" pos="0"/>
                                                                                                                    <a:tab algn="l" pos="914400"/>
                                                                                                                    <a:tab algn="l" pos="1828800"/>
                                                                                                                    <a:tab algn="l" pos="2743200"/>
                                                                                                                    <a:tab algn="l" pos="3657600"/>
                                                                                                                    <a:tab algn="l" pos="4572000"/>
                                                                                                                    <a:tab algn="l" pos="5486400"/>
                                                                                                                    <a:tab algn="l" pos="6400800"/>
                                                                                                                    <a:tab algn="l" pos="7315200"/>
                                                                                                                    <a:tab algn="l" pos="8229600"/>
                                                                                                                    <a:tab algn="l" pos="9144000"/>
                                                                                                                    <a:tab algn="l" pos="10058400"/>
                                                                                                                  </a:tabLst>
                                                                                                                </a:pPr>
                                                                                                                <a:r>
                                                                                                                  <a:rPr b="1" lang="en-US" sz="1200" spc="-1" strike="noStrike" u="sng">
                                                                                                                    <a:solidFill>
                                                                                                                      <a:srgbClr val="ffffff"/>
                                                                                                                    </a:solidFill>
                                                                                                                    <a:uFillTx/>
                                                                                                                    <a:latin typeface="Times New Roman"/>
                                                                                                                  </a:rPr>
                                                                                                                  <a:t>№</a:t>
                                                                                                                </a:r>
                                                                                                                <a:r>
                                                                                                                  <a:rPr b="1" lang="en-US" sz="1200" spc="-1" strike="noStrike" u="sng">
                                                                                                                    <a:solidFill>
                                                                                                                      <a:srgbClr val="ffffff"/>
                                                                                                                    </a:solidFill>
                                                                                                                    <a:uFillTx/>
                                                                                                                    <a:latin typeface="Times New Roman"/>
                                                                                                                  </a:rPr>
                                                                                                                  <a:t>33П</a:t>
                                                                                                                </a:r>
                                                                                                                <a:endParaRPr b="0" lang="en-US" sz="1200" spc="-1" strike="noStrike">
                                                                                                                  <a:solidFill>
                                                                                                                    <a:srgbClr val="ffffff"/>
                                                                                                                  </a:solidFill>
                                                                                                                  <a:latin typeface="Arial"/>
                                                                                                                </a:endParaRPr>
                                                                                                              </a:p>
                                                                                                            </p:txBody>
                                                                                                          </p:sp>
                                                                                                          <p:sp>
                                                                                                            <p:nvSpPr>
                                                                                                              <p:cNvPr id="407" name=""/>
                                                                                                              <p:cNvSpPr/>
                                                                                                              <p:nvPr/>
                                                                                                            </p:nvSpPr>
                                                                                                            <p:spPr>
                                                                                                              <a:xfrm flipH="1" flipV="1">
                                                                                                                <a:off x="4284360" y="2206080"/>
                                                                                                                <a:ext cx="142920" cy="287280"/>
                                                                                                              </a:xfrm>
                                                                                                              <a:prstGeom prst="line">
                                                                                                                <a:avLst/>
                                                                                                              </a:prstGeom>
                                                                                                              <a:ln w="9360">
                                                                                                                <a:solidFill>
                                                                                                                  <a:srgbClr val="ffffff"/>
                                                                                                                </a:solidFill>
                                                                                                                <a:miter/>
                                                                                                                <a:tailEnd len="med" type="triangle" w="med"/>
                                                                                                              </a:ln>
                                                                                                            </p:spPr>
                                                                                                            <p:style>
                                                                                                              <a:lnRef idx="0"/>
                                                                                                              <a:fillRef idx="0"/>
                                                                                                              <a:effectRef idx="0"/>
                                                                                                              <a:fontRef idx="minor"/>
                                                                                                            </p:style>
                                                                                                            <p:txBody>
        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        <a:noAutofit/>
                                                                                                              </a:bodyPr>
                                                                                                              <a:p>
      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      <a:solidFill>
                                                                                                                    <a:srgbClr val="ffffff"/>
                                                                                                                  </a:solidFill>
                                                                                                                  <a:latin typeface="Arial"/>
                                                                                                                </a:endParaRPr>
                                                                                                              </a:p>
                                                                                                            </p:txBody>
                                                                                                          </p:sp>
                                                                                                        </p:grpSp>
                                                                                                      </p:grpSp>
                                                                                                    </p:grpSp>
                                                                                                    <p:sp>
                                                                                                      <p:nvSpPr>
                                                                                                        <p:cNvPr id="408" name=""/>
                                                                                                        <p:cNvSpPr/>
                                                                                                        <p:nvPr/>
                                                                                                      </p:nvSpPr>
                                                                                                      <p:spPr>
                                                                                                        <a:xfrm>
                                                                                                          <a:off x="2124000" y="2133360"/>
                                                                                                          <a:ext cx="71640" cy="144360"/>
                                                                                                        </a:xfrm>
                                                                                                        <a:prstGeom prst="ellipse">
                                                                                                          <a:avLst/>
                                                                                                        </a:prstGeom>
                                                                                                        <a:solidFill>
                                                                                                          <a:srgbClr val="ff3300"/>
                                                                                                        </a:solidFill>
                                                                                                        <a:ln w="9360">
                                                                                                          <a:solidFill>
                                                                                                            <a:srgbClr val="ffffff"/>
                                                                                                          </a:solidFill>
                                                                                                          <a:miter/>
                                                                                                        </a:ln>
                                                                                                      </p:spPr>
                                                                                                      <p:style>
                                                                                                        <a:lnRef idx="0"/>
                                                                                                        <a:fillRef idx="0"/>
                                                                                                        <a:effectRef idx="0"/>
                                                                                                        <a:fontRef idx="minor"/>
                                                                                                      </p:style>
                                                                                                      <p:txBody>
                                                                                                        <a:bodyPr wrap="none" lIns="90000" rIns="90000" tIns="46800" bIns="46800" anchor="ctr">
                                                                                                          <a:noAutofit/>
                                                                                                        </a:bodyPr>
                                                                                                        <a:p>
                                                                                                          <a:endParaRPr b="0" lang="en-US" sz="1800" spc="-1" strike="noStrike">
                                                                                                            <a:solidFill>
                                                                                                              <a:srgbClr val="ffffff"/>
                                                                                                            </a:solidFill>
                                                                                                            <a:latin typeface="Arial"/>
                                                                                                          </a:endParaRPr>
                                                                                                        </a:p>
                                                                                                      </p:txBody>
                                                                                                    </p:sp>
                                                                                                  </p:grpSp>
                                                                                                  <p:sp>
                                                                                                    <p:nvSpPr>
                                                                                                      <p:cNvPr id="409" name=""/>
                                                                                                      <p:cNvSpPr/>
                                                                                                      <p:nvPr/>
                                                                                                    </p:nvSpPr>
                                                                                                    <p:spPr>
                                                                                                      <a:xfrm>
                                                                                                        <a:off x="5076720" y="2133360"/>
                                                                                                        <a:ext cx="1028880" cy="246240"/>
                                                                                                      </a:xfrm>
                                                                                                      <a:prstGeom prst="rect">
                                                                                                        <a:avLst/>
                                                                                                      </a:prstGeom>
                                                                                                      <a:noFill/>
                                                                                                      <a:ln w="0">
                                                                                                        <a:noFill/>
                                                                                                      </a:ln>
                                                                                                    </p:spPr>
                                                                                                    <p:style>
                                                                                                      <a:lnRef idx="0"/>
                                                                                                      <a:fillRef idx="0"/>
                                                                                                      <a:effectRef idx="0"/>
                                                                                                      <a:fontRef idx="minor"/>
                                                                                                    </p:style>
                                                                                                    <p:txBody>
                                                                                                      <a:bodyPr lIns="90000" rIns="90000" tIns="46800" bIns="46800" anchor="t">
                                                                                                        <a:spAutoFit/>
                                                                                                      </a:bodyPr>
                                                                                                      <a:p>
                                                                                                        <a:pPr algn="ctr">
                                                                                                          <a:lnSpc>
                                                                                                            <a:spcPct val="100000"/>
                                                                                                          </a:lnSpc>
                                                                                                          <a:tabLst>
                                                                                                            <a:tab algn="l" pos="0"/>
                                                                                                            <a:tab algn="l" pos="914400"/>
                                                                                                            <a:tab algn="l" pos="1828800"/>
                                                                                                            <a:tab algn="l" pos="2743200"/>
                                                                                                            <a:tab algn="l" pos="3657600"/>
                                                                                                            <a:tab algn="l" pos="4572000"/>
                                                                                                            <a:tab algn="l" pos="5486400"/>
                                                                                                            <a:tab algn="l" pos="6400800"/>
                                                                                                            <a:tab algn="l" pos="7315200"/>
                                                                                                            <a:tab algn="l" pos="8229600"/>
                                                                                                            <a:tab algn="l" pos="9144000"/>
                                                                                                            <a:tab algn="l" pos="10058400"/>
                                                                                                          </a:tabLst>
                                                                                                        </a:pPr>
                                                                                                        <a:r>
                                                                                                          <a:rPr b="0" lang="en-US" sz="1000" spc="-1" strike="noStrike">
                                                                                                            <a:solidFill>
                                                                                                              <a:srgbClr val="ffffff"/>
                                                                                                            </a:solidFill>
                                                                                                            <a:latin typeface="Times New Roman"/>
                                                                                                          </a:rPr>
                                                                                                          <a:t>Курумоч</a:t>
                                                                                                        </a:r>
                                                                                                        <a:endParaRPr b="0" lang="en-US" sz="1000" spc="-1" strike="noStrike">
                                                                                                          <a:solidFill>
                                                                                                            <a:srgbClr val="ffffff"/>
                                                                                                          </a:solidFill>
                                                                                                          <a:latin typeface="Arial"/>
                                                                                                        </a:endParaRPr>
                                                                                                      </a:p>
                                                                                                    </p:txBody>
                                                                                                  </p:sp>
                                                                                                </p:grpSp>
                                                                                                <p:sp>
                                                                                                  <p:nvSpPr>
                                                                                                    <p:cNvPr id="410" name=""/>
                                                                                                    <p:cNvSpPr/>
                                                                                                    <p:nvPr/>
                                                                                                  </p:nvSpPr>
                                                                                                  <p:spPr>
                                                                                                    <a:xfrm>
                                                                                                      <a:off x="4859280" y="2565000"/>
                                                                                                      <a:ext cx="1081080" cy="246240"/>
                                                                                                    </a:xfrm>
                                                                                                    <a:prstGeom prst="rect">
                                                                                                      <a:avLst/>
                                                                                                    </a:prstGeom>
                                                                                                    <a:noFill/>
                                                                                                    <a:ln w="0">
                                                                                                      <a:noFill/>
                                                                                                    </a:ln>
                                                                                                  </p:spPr>
                                                                                                  <p:style>
                                                                                                    <a:lnRef idx="0"/>
                                                                                                    <a:fillRef idx="0"/>
                                                                                                    <a:effectRef idx="0"/>
                                                                                                    <a:fontRef idx="minor"/>
                                                                                                  </p:style>
                                                                                                  <p:txBody>
                                                                                                    <a:bodyPr lIns="90000" rIns="90000" tIns="46800" bIns="46800" anchor="t">
                                                                                                      <a:spAutoFit/>
                                                                                                    </a:bodyPr>
                                                                                                    <a:p>
                                                                                                      <a:pPr algn="ctr">
                                                                                                        <a:lnSpc>
                                                                                                          <a:spcPct val="100000"/>
                                                                                                        </a:lnSpc>
                                                                                                        <a:tabLst>
                                                                                                          <a:tab algn="l" pos="0"/>
                                                                                                          <a:tab algn="l" pos="914400"/>
                                                                                                          <a:tab algn="l" pos="1828800"/>
                                                                                                          <a:tab algn="l" pos="2743200"/>
                                                                                                          <a:tab algn="l" pos="3657600"/>
                                                                                                          <a:tab algn="l" pos="4572000"/>
                                                                                                          <a:tab algn="l" pos="5486400"/>
                                                                                                          <a:tab algn="l" pos="6400800"/>
                                                                                                          <a:tab algn="l" pos="7315200"/>
                                                                                                          <a:tab algn="l" pos="8229600"/>
                                                                                                          <a:tab algn="l" pos="9144000"/>
                                                                                                          <a:tab algn="l" pos="10058400"/>
                                                                                                        </a:tabLst>
                                                                                                      </a:pPr>
                                                                                                      <a:r>
                                                                                                        <a:rPr b="0" lang="en-US" sz="1000" spc="-1" strike="noStrike">
                                                                                                          <a:solidFill>
                                                                                                            <a:srgbClr val="ffffff"/>
                                                                                                          </a:solidFill>
                                                                                                          <a:latin typeface="Times New Roman"/>
                                                                                                        </a:rPr>
                                                                                                        <a:t>Волжский</a:t>
                                                                                                      </a:r>
                                                                                                      <a:endParaRPr b="0" lang="en-US" sz="1000" spc="-1" strike="noStrike">
                                                                                                        <a:solidFill>
                                                                                                          <a:srgbClr val="ffffff"/>
                                                                                                        </a:solidFill>
                                                                                                        <a:latin typeface="Arial"/>
                                                                                                      </a:endParaRPr>
                                                                                                    </a:p>
                                                                                                  </p:txBody>
                                                                                                </p:sp>
                                                                                              </p:grpSp>
                                                                                              <p:sp>
                                                                                                <p:nvSpPr>
                                                                                                  <p:cNvPr id="411" name=""/>
                                                                                                  <p:cNvSpPr/>
                                                                                                  <p:nvPr/>
                                                                                                </p:nvSpPr>
                                                                                                <p:spPr>
                                                                                                  <a:xfrm>
                                                                                                    <a:off x="5003640" y="2997000"/>
                                                                                                    <a:ext cx="1008360" cy="337320"/>
                                                                                                  </a:xfrm>
                                                                                                  <a:prstGeom prst="rect">
                                                                                                    <a:avLst/>
                                                                                                  </a:prstGeom>
                                                                                                  <a:noFill/>
                                                                                                  <a:ln w="0">
                                                                                                    <a:noFill/>
                                                                                                  </a:ln>
                                                                                                </p:spPr>
                                                                                                <p:style>
                                                                                                  <a:lnRef idx="0"/>
                                                                                                  <a:fillRef idx="0"/>
                                                                                                  <a:effectRef idx="0"/>
                                                                                                  <a:fontRef idx="minor"/>
                                                                                                </p:style>
                                                                                                <p:txBody>
                                                                                                  <a:bodyPr lIns="90000" rIns="90000" tIns="46800" bIns="46800" anchor="t">
                                                                                                    <a:spAutoFit/>
                                                                                                  </a:bodyPr>
                                                                                                  <a:p>
                                                                                                    <a:pPr algn="ctr">
                                                                                                      <a:lnSpc>
                                                                                                        <a:spcPct val="100000"/>
                                                                                                      </a:lnSpc>
                                                                                                      <a:tabLst>
                                                                                                        <a:tab algn="l" pos="0"/>
                                                                                                        <a:tab algn="l" pos="914400"/>
                                                                                                        <a:tab algn="l" pos="1828800"/>
                                                                                                        <a:tab algn="l" pos="2743200"/>
                                                                                                        <a:tab algn="l" pos="3657600"/>
                                                                                                        <a:tab algn="l" pos="4572000"/>
                                                                                                        <a:tab algn="l" pos="5486400"/>
                                                                                                        <a:tab algn="l" pos="6400800"/>
                                                                                                        <a:tab algn="l" pos="7315200"/>
                                                                                                        <a:tab algn="l" pos="8229600"/>
                                                                                                        <a:tab algn="l" pos="9144000"/>
                                                                                                        <a:tab algn="l" pos="10058400"/>
                                                                                                      </a:tabLst>
                                                                                                    </a:pPr>
                                                                                                    <a:r>
                                                                                                      <a:rPr b="1" lang="en-US" sz="1600" spc="-1" strike="noStrike">
                                                                                                        <a:solidFill>
                                                                                                          <a:srgbClr val="ffffff"/>
                                                                                                        </a:solidFill>
                                                                                                        <a:latin typeface="Times New Roman"/>
                                                                                                      </a:rPr>
                                                                                                      <a:t>Самара</a:t>
                                                                                                    </a:r>
                                                                                                    <a:endParaRPr b="0" lang="en-US" sz="1600" spc="-1" strike="noStrike">
                                                                                                      <a:solidFill>
                                                                                                        <a:srgbClr val="ffffff"/>
                                                                                                      </a:solidFill>
                                                                                                      <a:latin typeface="Arial"/>
                                                                                                    </a:endParaRPr>
                                                                                                  </a:p>
                                                                                                </p:txBody>
                                                                                              </p:sp>
                                                                                            </p:grpSp>
                                                                                            <p:grpSp>
                                                                                              <p:nvGrpSpPr>
                                                                                                <p:cNvPr id="412" name=""/>
                                                                                                <p:cNvGrpSpPr/>
                                                                                                <p:nvPr/>
                                                                                              </p:nvGrpSpPr>
                                                                                              <p:grpSpPr>
                                                                                                <a:xfrm>
                                                                                                  <a:off x="4859280" y="2781000"/>
                                                                                                  <a:ext cx="1008000" cy="276480"/>
                                                                                                  <a:chOff x="4859280" y="2781000"/>
                                                                                                  <a:chExt cx="1008000" cy="276480"/>
                                                                                                </a:xfrm>
                                                                                              </p:grpSpPr>
                                                                                              <p:sp>
                                                                                                <p:nvSpPr>
                                                                                                  <p:cNvPr id="413" name=""/>
                                                                                                  <p:cNvSpPr/>
                                                                                                  <p:nvPr/>
                                                                                                </p:nvSpPr>
                                                                                                <p:spPr>
                                                                                                  <a:xfrm>
                                                                                                    <a:off x="4859280" y="2781000"/>
                                                                                                    <a:ext cx="719280" cy="276480"/>
                                                                                                  </a:xfrm>
                                                                                                  <a:prstGeom prst="rect">
                                                                                                    <a:avLst/>
                                                                                                  </a:prstGeom>
                                                                                                  <a:noFill/>
                                                                                                  <a:ln w="0">
                                                                                                    <a:noFill/>
                                                                                                  </a:ln>
                                                                                                </p:spPr>
                                                                                                <p:style>
                                                                                                  <a:lnRef idx="0"/>
                                                                                                  <a:fillRef idx="0"/>
                                                                                                  <a:effectRef idx="0"/>
                                                                                                  <a:fontRef idx="minor"/>
                                                                                                </p:style>
                                                                                                <p:txBody>
                                                                                                  <a:bodyPr lIns="90000" rIns="90000" tIns="46800" bIns="46800" anchor="t">
                                                                                                    <a:spAutoFit/>
                                                                                                  </a:bodyPr>
                                                                                                  <a:p>
                                                                                                    <a:pPr algn="ctr">
                                                                                                      <a:lnSpc>
                                                                                                        <a:spcPct val="100000"/>
                                                                                                      </a:lnSpc>
                                                                                                      <a:tabLst>
                                                                                                        <a:tab algn="l" pos="0"/>
                                                                                                        <a:tab algn="l" pos="914400"/>
                                                                                                        <a:tab algn="l" pos="1828800"/>
                                                                                                        <a:tab algn="l" pos="2743200"/>
                                                                                                        <a:tab algn="l" pos="3657600"/>
                                                                                                        <a:tab algn="l" pos="4572000"/>
                                                                                                        <a:tab algn="l" pos="5486400"/>
                                                                                                        <a:tab algn="l" pos="6400800"/>
                                                                                                        <a:tab algn="l" pos="7315200"/>
                                                                                                        <a:tab algn="l" pos="8229600"/>
                                                                                                        <a:tab algn="l" pos="9144000"/>
                                                                                                        <a:tab algn="l" pos="10058400"/>
                                                                                                      </a:tabLst>
                                                                                                    </a:pPr>
                                                                                                    <a:r>
                                                                                                      <a:rPr b="1" lang="en-US" sz="1200" spc="-1" strike="noStrike" u="sng">
                                                                                                        <a:solidFill>
                                                                                                          <a:srgbClr val="ffffff"/>
                                                                                                        </a:solidFill>
                                                                                                        <a:uFillTx/>
                                                                                                        <a:latin typeface="Times New Roman"/>
                                                                                                      </a:rPr>
                                                                                                      <a:t>№</a:t>
                                                                                                    </a:r>
                                                                                                    <a:r>
                                                                                                      <a:rPr b="1" lang="en-US" sz="1200" spc="-1" strike="noStrike" u="sng">
                                                                                                        <a:solidFill>
                                                                                                          <a:srgbClr val="ffffff"/>
                                                                                                        </a:solidFill>
                                                                                                        <a:uFillTx/>
                                                                                                        <a:latin typeface="Times New Roman"/>
                                                                                                      </a:rPr>
                                                                                                      <a:t>12П</a:t>
                                                                                                    </a:r>
                                                                                                    <a:endParaRPr b="0" lang="en-US" sz="1200" spc="-1" strike="noStrike">
                                                                                                      <a:solidFill>
                                                                                                        <a:srgbClr val="ffffff"/>
                                                                                                      </a:solidFill>
                                                                                                      <a:latin typeface="Arial"/>
                                                                                                    </a:endParaRPr>
                                                                                                  </a:p>
                                                                                                </p:txBody>
                                                                                              </p:sp>
                                                                                              <p:sp>
                                                                                                <p:nvSpPr>
                                                                                                  <p:cNvPr id="414" name=""/>
                                                                                                  <p:cNvSpPr/>
                                                                                                  <p:nvPr/>
                                                                                                </p:nvSpPr>
                                                                                                <p:spPr>
                                                                                                  <a:xfrm flipV="1">
                                                                                                    <a:off x="5435640" y="2853720"/>
                                                                                                    <a:ext cx="431640" cy="142920"/>
                                                                                                  </a:xfrm>
                                                                                                  <a:prstGeom prst="line">
                                                                                                    <a:avLst/>
                                                                                                  </a:prstGeom>
                                                                                                  <a:ln w="9360">
                                                                                                    <a:solidFill>
                                                                                                      <a:srgbClr val="ffffff"/>
                                                                                                    </a:solidFill>
                                                                                                    <a:miter/>
                                                                                                    <a:tailEnd len="med" type="triangle" w="med"/>
                                                                                                  </a:ln>
                                                                                                </p:spPr>
                                                                                                <p:style>
                                                                                                  <a:lnRef idx="0"/>
                                                                                                  <a:fillRef idx="0"/>
                                                                                                  <a:effectRef idx="0"/>
                                                                                                  <a:fontRef idx="minor"/>
                                                                                                </p:style>
                                                                                                <p:txBody>
                                                                                                  <a:bodyPr lIns="90000" rIns="90000" tIns="46800" bIns="46800" anchor="t">
                                                                                                    <a:noAutofit/>
                                                                                                  </a:bodyPr>
                                                                                                  <a:p>
                                                                                                    <a:endParaRPr b="0" lang="en-US" sz="1800" spc="-1" strike="noStrike">
                                                                                                      <a:solidFill>
                                                                                                        <a:srgbClr val="ffffff"/>
                                                                                                      </a:solidFill>
                                                                                                      <a:latin typeface="Arial"/>
                                                                                                    </a:endParaRPr>
                                                                                                  </a:p>
                                                                                                </p:txBody>
                                                                                              </p:sp>
                                                                                            </p:grpSp>
                                                                                          </p:grpSp>
                                                                                          <p:sp>
                                                                                            <p:nvSpPr>
                                                                                              <p:cNvPr id="415" name=""/>
                                                                                              <p:cNvSpPr/>
                                                                                              <p:nvPr/>
                                                                                            </p:nvSpPr>
                                                                                            <p:spPr>
                                                                                              <a:xfrm>
                                                                                                <a:off x="6084720" y="1989000"/>
                                                                                                <a:ext cx="955800" cy="246240"/>
                                                                                              </a:xfrm>
                                                                                              <a:prstGeom prst="rect">
                                                                                                <a:avLst/>
                                                                                              </a:prstGeom>
                                                                                              <a:noFill/>
                                                                                              <a:ln w="0">
                                                                                                <a:noFill/>
                                                                                              </a:ln>
                                                                                            </p:spPr>
                                                                                            <p:style>
                                                                                              <a:lnRef idx="0"/>
                                                                                              <a:fillRef idx="0"/>
                                                                                              <a:effectRef idx="0"/>
                                                                                              <a:fontRef idx="minor"/>
                                                                                            </p:style>
                                                                                            <p:txBody>
                                                                                              <a:bodyPr lIns="90000" rIns="90000" tIns="46800" bIns="46800" anchor="t">
                                                                                                <a:spAutoFit/>
                                                                                              </a:bodyPr>
                                                                                              <a:p>
                                                                                                <a:pPr algn="ctr">
                                                                                                  <a:lnSpc>
                                                                                                    <a:spcPct val="100000"/>
                                                                                                  </a:lnSpc>
                                                                                                  <a:tabLst>
                                                                                                    <a:tab algn="l" pos="0"/>
                                                                                                    <a:tab algn="l" pos="914400"/>
                                                                                                    <a:tab algn="l" pos="1828800"/>
                                                                                                    <a:tab algn="l" pos="2743200"/>
                                                                                                    <a:tab algn="l" pos="3657600"/>
                                                                                                    <a:tab algn="l" pos="4572000"/>
                                                                                                    <a:tab algn="l" pos="5486400"/>
                                                                                                    <a:tab algn="l" pos="6400800"/>
                                                                                                    <a:tab algn="l" pos="7315200"/>
                                                                                                    <a:tab algn="l" pos="8229600"/>
                                                                                                    <a:tab algn="l" pos="9144000"/>
                                                                                                    <a:tab algn="l" pos="10058400"/>
                                                                                                  </a:tabLst>
                                                                                                </a:pPr>
                                                                                                <a:r>
                                                                                                  <a:rPr b="0" lang="en-US" sz="1000" spc="-1" strike="noStrike">
                                                                                                    <a:solidFill>
                                                                                                      <a:srgbClr val="ffffff"/>
                                                                                                    </a:solidFill>
                                                                                                    <a:latin typeface="Times New Roman"/>
                                                                                                  </a:rPr>
                                                                                                  <a:t>Белозерка</a:t>
                                                                                                </a:r>
                                                                                                <a:endParaRPr b="0" lang="en-US" sz="1000" spc="-1" strike="noStrike">
                                                                                                  <a:solidFill>
                                                                                                    <a:srgbClr val="ffffff"/>
                                                                                                  </a:solidFill>
                                                                                                  <a:latin typeface="Arial"/>
                                                                                                </a:endParaRPr>
                                                                                              </a:p>
                                                                                            </p:txBody>
                                                                                          </p:sp>
                                                                                        </p:grpSp>
                                                                                        <p:sp>
                                                                                          <p:nvSpPr>
                                                                                            <p:cNvPr id="416" name=""/>
                                                                                            <p:cNvSpPr/>
                                                                                            <p:nvPr/>
                                                                                          </p:nvSpPr>
                                                                                          <p:spPr>
                                                                                            <a:xfrm>
                                                                                              <a:off x="6948360" y="2061720"/>
                                                                                              <a:ext cx="1173240" cy="246240"/>
                                                                                            </a:xfrm>
                                                                                            <a:prstGeom prst="rect">
                                                                                              <a:avLst/>
                                                                                            </a:prstGeom>
                                                                                            <a:noFill/>
                                                                                            <a:ln w="0">
                                                                                              <a:noFill/>
                                                                                            </a:ln>
                                                                                          </p:spPr>
                                                                                          <p:style>
                                                                                            <a:lnRef idx="0"/>
                                                                                            <a:fillRef idx="0"/>
                                                                                            <a:effectRef idx="0"/>
                                                                                            <a:fontRef idx="minor"/>
                                                                                          </p:style>
                                                                                          <p:txBody>
                                                                                            <a:bodyPr lIns="90000" rIns="90000" tIns="46800" bIns="46800" anchor="t">
                                                                                              <a:spAutoFit/>
                                                                                            </a:bodyPr>
                                                                                            <a:p>
                                                                                              <a:pPr algn="ctr">
                                                                                                <a:lnSpc>
                                                                                                  <a:spcPct val="100000"/>
                                                                                                </a:lnSpc>
                                                                                                <a:tabLst>
                                                                                                  <a:tab algn="l" pos="0"/>
                                                                                                  <a:tab algn="l" pos="914400"/>
                                                                                                  <a:tab algn="l" pos="1828800"/>
                                                                                                  <a:tab algn="l" pos="2743200"/>
                                                                                                  <a:tab algn="l" pos="3657600"/>
                                                                                                  <a:tab algn="l" pos="4572000"/>
                                                                                                  <a:tab algn="l" pos="5486400"/>
                                                                                                  <a:tab algn="l" pos="6400800"/>
                                                                                                  <a:tab algn="l" pos="7315200"/>
                                                                                                  <a:tab algn="l" pos="8229600"/>
                                                                                                  <a:tab algn="l" pos="9144000"/>
                                                                                                  <a:tab algn="l" pos="10058400"/>
                                                                                                </a:tabLst>
                                                                                              </a:pPr>
                                                                                              <a:r>
                                                                                                <a:rPr b="0" lang="en-US" sz="1000" spc="-1" strike="noStrike" u="sng">
                                                                                                  <a:solidFill>
                                                                                                    <a:srgbClr val="ffffff"/>
                                                                                                  </a:solidFill>
                                                                                                  <a:uFillTx/>
                                                                                                  <a:latin typeface="Times New Roman"/>
                                                                                                </a:rPr>
                                                                                                <a:t>Новосемейкино</a:t>
                                                                                              </a:r>
                                                                                              <a:endParaRPr b="0" lang="en-US" sz="1000" spc="-1" strike="noStrike">
                                                                                                <a:solidFill>
                                                                                                  <a:srgbClr val="ffffff"/>
                                                                                                </a:solidFill>
                                                                                                <a:latin typeface="Arial"/>
                                                                                              </a:endParaRPr>
                                                                                            </a:p>
                                                                                          </p:txBody>
                                                                                        </p:sp>
                                                                                        <p:sp>
                                                                                          <p:nvSpPr>
                                                                                            <p:cNvPr id="417" name=""/>
                                                                                            <p:cNvSpPr/>
                                                                                            <p:nvPr/>
                                                                                          </p:nvSpPr>
                                                                                          <p:spPr>
                                                                                            <a:xfrm flipH="1">
                                                                                              <a:off x="6443640" y="2277720"/>
                                                                                              <a:ext cx="720720" cy="358920"/>
                                                                                            </a:xfrm>
                                                                                            <a:prstGeom prst="line">
                                                                                              <a:avLst/>
                                                                                            </a:prstGeom>
                                                                                            <a:ln w="9360">
                                                                                              <a:solidFill>
                                                                                                <a:srgbClr val="ffffff"/>
                                                                                              </a:solidFill>
                                                                                              <a:miter/>
                                                                                              <a:tailEnd len="med" type="triangle" w="med"/>
                                                                                            </a:ln>
                                                                                          </p:spPr>
                                                                                          <p:style>
                                                                                            <a:lnRef idx="0"/>
                                                                                            <a:fillRef idx="0"/>
                                                                                            <a:effectRef idx="0"/>
                                                                                            <a:fontRef idx="minor"/>
                                                                                          </p:style>
                                                                                          <p:txBody>
                                                                                            <a:bodyPr lIns="90000" rIns="90000" tIns="46800" bIns="46800" anchor="t">
                                                                                              <a:noAutofit/>
                                                                                            </a:bodyPr>
                                                                                            <a:p>
                                                                                              <a:endParaRPr b="0" lang="en-US" sz="1800" spc="-1" strike="noStrike">
                                                                                                <a:solidFill>
                                                                                                  <a:srgbClr val="ffffff"/>
                                                                                                </a:solidFill>
                                                                                                <a:latin typeface="Arial"/>
                                                                                              </a:endParaRPr>
                                                                                            </a:p>
                                                                                          </p:txBody>
                                                                                        </p:sp>
                                                                                      </p:grp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418" name="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6732720" y="2565000"/>
                                                                                            <a:ext cx="792000" cy="24624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noFill/>
                                                                                          <a:ln w="0">
                                                                                            <a:noFill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t">
                                                                                            <a:sp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 algn="ctr">
                                                                                              <a:lnSpc>
                                                                                                <a:spcPct val="100000"/>
                                                                                              </a:lnSpc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r>
                                                                                              <a:rPr b="0" lang="en-US" sz="1000" spc="-1" strike="noStrike">
                                                                                                <a:solidFill>
                                                                                                  <a:srgbClr val="ffffff"/>
                                                                                                </a:solidFill>
                                                                                                <a:latin typeface="Times New Roman"/>
                                                                                              </a:rPr>
                                                                                              <a:t>Водино</a:t>
                                                                                            </a:r>
                                                                                            <a:endParaRPr b="0" lang="en-US" sz="1000" spc="-1" strike="noStrike">
                                                                                              <a:solidFill>
                                                                                                <a:srgbClr val="ffffff"/>
                                                                                              </a:solidFill>
                                                                                              <a:latin typeface="Arial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</p:grpSp>
                                                                                    <p:sp>
                                                                                      <p:nvSpPr>
                                                                                        <p:cNvPr id="419" name=""/>
                                                                                        <p:cNvSpPr/>
                                                                                        <p:nvPr/>
                                                                                      </p:nvSpPr>
                                                                                      <p:spPr>
                                                                                        <a:xfrm>
                                                                                          <a:off x="5580000" y="2349360"/>
                                                                                          <a:ext cx="936720" cy="276480"/>
                                                                                        </a:xfrm>
                                                                                        <a:prstGeom prst="rect">
                                                                                          <a:avLst/>
                                                                                        </a:prstGeom>
                                                                                        <a:noFill/>
                                                                                        <a:ln w="0">
                                                                                          <a:noFill/>
                                                                                        </a:ln>
                                                                                      </p:spPr>
                                                                                      <p:style>
                                                                                        <a:lnRef idx="0"/>
                                                                                        <a:fillRef idx="0"/>
                                                                                        <a:effectRef idx="0"/>
                                                                                        <a:fontRef idx="minor"/>
                                                                                      </p:style>
                                                                                      <p:txBody>
                                                                                        <a:bodyPr lIns="90000" rIns="90000" tIns="46800" bIns="46800" anchor="t">
                                                                                          <a:spAutoFit/>
                                                                                        </a:bodyPr>
                                                                                        <a:p>
                                                                                          <a:pPr algn="ctr">
                                                                                            <a:lnSpc>
                                                                                              <a:spcPct val="100000"/>
                                                                                            </a:lnSpc>
                                                                                            <a:tabLst>
                                                                                              <a:tab algn="l" pos="0"/>
                                                                                              <a:tab algn="l" pos="914400"/>
                                                                                              <a:tab algn="l" pos="1828800"/>
                                                                                              <a:tab algn="l" pos="2743200"/>
                                                                                              <a:tab algn="l" pos="3657600"/>
                                                                                              <a:tab algn="l" pos="4572000"/>
                                                                                              <a:tab algn="l" pos="5486400"/>
                                                                                              <a:tab algn="l" pos="6400800"/>
                                                                                              <a:tab algn="l" pos="7315200"/>
                                                                                              <a:tab algn="l" pos="8229600"/>
                                                                                              <a:tab algn="l" pos="9144000"/>
                                                                                              <a:tab algn="l" pos="10058400"/>
                                                                                            </a:tabLst>
                                                                                          </a:pPr>
                                                                                          <a:r>
                                                                                            <a:rPr b="1" lang="en-US" sz="1200" spc="-1" strike="noStrike">
                                                                                              <a:solidFill>
                                                                                                <a:srgbClr val="ffffff"/>
                                                                                              </a:solidFill>
                                                                                              <a:latin typeface="Times New Roman"/>
                                                                                            </a:rPr>
                                                                                            <a:t>№</a:t>
                                                                                          </a:r>
                                                                                          <a:r>
                                                                                            <a:rPr b="1" lang="en-US" sz="1200" spc="-1" strike="noStrike">
                                                                                              <a:solidFill>
                                                                                                <a:srgbClr val="ffffff"/>
                                                                                              </a:solidFill>
                                                                                              <a:latin typeface="Times New Roman"/>
                                                                                            </a:rPr>
                                                                                            <a:t>15/2П</a:t>
                                                                                          </a:r>
                                                                                          <a:endParaRPr b="0" lang="en-US" sz="1200" spc="-1" strike="noStrike">
                                                                                            <a:solidFill>
                                                                                              <a:srgbClr val="ffffff"/>
                                                                                            </a:solidFill>
                                                                                            <a:latin typeface="Arial"/>
                                                                                          </a:endParaRPr>
                                                                                        </a:p>
                                                                                      </p:txBody>
                                                                                    </p:sp>
                                                                                    <p:sp>
                                                                                      <p:nvSpPr>
                                                                                        <p:cNvPr id="420" name=""/>
                                                                                        <p:cNvSpPr/>
                                                                                        <p:nvPr/>
                                                                                      </p:nvSpPr>
                                                                                      <p:spPr>
                                                                                        <a:xfrm>
                                                                                          <a:off x="5867280" y="2565000"/>
                                                                                          <a:ext cx="505080" cy="0"/>
                                                                                        </a:xfrm>
                                                                                        <a:prstGeom prst="line">
                                                                                          <a:avLst/>
                                                                                        </a:prstGeom>
                                                                                        <a:ln w="9360"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miter/>
                                                                                          <a:tailEnd len="med" type="triangle" w="med"/>
                                                                                        </a:ln>
                                                                                      </p:spPr>
                                                                                      <p:style>
                                                                                        <a:lnRef idx="0"/>
                                                                                        <a:fillRef idx="0"/>
                                                                                        <a:effectRef idx="0"/>
                                                                                        <a:fontRef idx="minor"/>
                                                                                      </p:style>
                                                                                      <p:txBody>
                                                                                        <a:bodyPr lIns="90000" rIns="90000" tIns="-46800" bIns="-46800" anchor="t">
                                                                                          <a:noAutofit/>
                                                                                        </a:bodyPr>
                                                                                        <a:p>
                                                                                          <a:endParaRPr b="0" lang="en-US" sz="1800" spc="-1" strike="noStrike">
                                                                                            <a:solidFill>
                                                                                              <a:srgbClr val="ffffff"/>
                                                                                            </a:solidFill>
                                                                                            <a:latin typeface="Arial"/>
                                                                                          </a:endParaRPr>
                                                                                        </a:p>
                                                                                      </p:txBody>
                                                                                    </p:sp>
                                                                                  </p:grpSp>
                                                                                  <p:sp>
                                                                                    <p:nvSpPr>
                                                                                      <p:cNvPr id="421" name=""/>
                                                                                      <p:cNvSpPr/>
                                                                                      <p:nvPr/>
                                                                                    </p:nvSpPr>
                                                                                    <p:spPr>
                                                                                      <a:xfrm>
                                                                                        <a:off x="6443640" y="2709720"/>
                                                                                        <a:ext cx="739800" cy="276480"/>
                                                                                      </a:xfrm>
                                                                                      <a:prstGeom prst="rect">
                                                                                        <a:avLst/>
                                                                                      </a:prstGeom>
                                                                                      <a:noFill/>
                                                                                      <a:ln w="0">
                                                                                        <a:noFill/>
                                                                                      </a:ln>
                                                                                    </p:spPr>
                                                                                    <p:style>
                                                                                      <a:lnRef idx="0"/>
                                                                                      <a:fillRef idx="0"/>
                                                                                      <a:effectRef idx="0"/>
                                                                                      <a:fontRef idx="minor"/>
                                                                                    </p:style>
                                                                                    <p:txBody>
                                                                                      <a:bodyPr lIns="90000" rIns="90000" tIns="46800" bIns="46800" anchor="t">
                                                                                        <a:spAutoFit/>
                                                                                      </a:bodyPr>
                                                                                      <a:p>
                                                                                        <a:pPr algn="ctr">
                                                                                          <a:lnSpc>
                                                                                            <a:spcPct val="100000"/>
                                                                                          </a:lnSpc>
                                                                                          <a:tabLst>
                                                                                            <a:tab algn="l" pos="0"/>
                                                                                            <a:tab algn="l" pos="914400"/>
                                                                                            <a:tab algn="l" pos="1828800"/>
                                                                                            <a:tab algn="l" pos="2743200"/>
                                                                                            <a:tab algn="l" pos="3657600"/>
                                                                                            <a:tab algn="l" pos="4572000"/>
                                                                                            <a:tab algn="l" pos="5486400"/>
                                                                                            <a:tab algn="l" pos="6400800"/>
                                                                                            <a:tab algn="l" pos="7315200"/>
                                                                                            <a:tab algn="l" pos="8229600"/>
                                                                                            <a:tab algn="l" pos="9144000"/>
                                                                                            <a:tab algn="l" pos="10058400"/>
                                                                                          </a:tabLst>
                                                                                        </a:pPr>
                                                                                        <a:r>
                                                                                          <a:rPr b="1" lang="en-US" sz="1200" spc="-1" strike="noStrike" u="sng">
                                                                                            <a:solidFill>
                                                                                              <a:srgbClr val="ffffff"/>
                                                                                            </a:solidFill>
                                                                                            <a:uFillTx/>
                                                                                            <a:latin typeface="Times New Roman"/>
                                                                                          </a:rPr>
                                                                                          <a:t>№</a:t>
                                                                                        </a:r>
                                                                                        <a:r>
                                                                                          <a:rPr b="1" lang="en-US" sz="1200" spc="-1" strike="noStrike" u="sng">
                                                                                            <a:solidFill>
                                                                                              <a:srgbClr val="ffffff"/>
                                                                                            </a:solidFill>
                                                                                            <a:uFillTx/>
                                                                                            <a:latin typeface="Times New Roman"/>
                                                                                          </a:rPr>
                                                                                          <a:t>15/1П</a:t>
                                                                                        </a:r>
                                                                                        <a:endParaRPr b="0" lang="en-US" sz="1200" spc="-1" strike="noStrike"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atin typeface="Arial"/>
                                                                                        </a:endParaRPr>
                                                                                      </a:p>
                                                                                    </p:txBody>
                                                                                  </p:sp>
                                                                                  <p:sp>
                                                                                    <p:nvSpPr>
                                                                                      <p:cNvPr id="422" name=""/>
                                                                                      <p:cNvSpPr/>
                                                                                      <p:nvPr/>
                                                                                    </p:nvSpPr>
                                                                                    <p:spPr>
                                                                                      <a:xfrm flipV="1">
                                                                                        <a:off x="6516720" y="2709360"/>
                                                                                        <a:ext cx="0" cy="215640"/>
                                                                                      </a:xfrm>
                                                                                      <a:prstGeom prst="line">
                                                                                        <a:avLst/>
                                                                                      </a:prstGeom>
                                                                                      <a:ln w="9360">
                                                                                        <a:solidFill>
                                                                                          <a:srgbClr val="ffffff"/>
                                                                                        </a:solidFill>
                                                                                        <a:miter/>
                                                                                        <a:tailEnd len="med" type="triangle" w="med"/>
                                                                                      </a:ln>
                                                                                    </p:spPr>
                                                                                    <p:style>
                                                                                      <a:lnRef idx="0"/>
                                                                                      <a:fillRef idx="0"/>
                                                                                      <a:effectRef idx="0"/>
                                                                                      <a:fontRef idx="minor"/>
                                                                                    </p:style>
                                                                                    <p:txBody>
                                                                                      <a:bodyPr lIns="90000" rIns="90000" tIns="46800" bIns="46800" anchor="t">
                                                                                        <a:noAutofit/>
                                                                                      </a:bodyPr>
                                                                                      <a:p>
                                                                                        <a:endParaRPr b="0" lang="en-US" sz="1800" spc="-1" strike="noStrike"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atin typeface="Arial"/>
                                                                                        </a:endParaRPr>
                                                                                      </a:p>
                                                                                    </p:txBody>
                                                                                  </p:sp>
                                                                                </p:grpSp>
                                                                                <p:sp>
                                                                                  <p:nvSpPr>
                                                                                    <p:cNvPr id="423" name=""/>
                                                                                    <p:cNvSpPr/>
                                                                                    <p:nvPr/>
                                                                                  </p:nvSpPr>
                                                                                  <p:spPr>
                                                                                    <a:xfrm>
                                                                                      <a:off x="7451640" y="3141360"/>
                                                                                      <a:ext cx="884160" cy="276480"/>
                                                                                    </a:xfrm>
                                                                                    <a:prstGeom prst="rect">
                                                                                      <a:avLst/>
                                                                                    </a:prstGeom>
                                                                                    <a:noFill/>
                                                                                    <a:ln w="0">
                                                                                      <a:noFill/>
                                                                                    </a:ln>
                                                                                  </p:spPr>
                                                                                  <p:style>
                                                                                    <a:lnRef idx="0"/>
                                                                                    <a:fillRef idx="0"/>
                                                                                    <a:effectRef idx="0"/>
                                                                                    <a:fontRef idx="minor"/>
                                                                                  </p:style>
                                                                                  <p:txBody>
                                                                                    <a:bodyPr lIns="90000" rIns="90000" tIns="46800" bIns="46800" anchor="t">
                                                                                      <a:spAutoFit/>
                                                                                    </a:bodyPr>
                                                                                    <a:p>
                                                                                      <a:pPr algn="ctr">
                                                                                        <a:lnSpc>
                                                                                          <a:spcPct val="100000"/>
                                                                                        </a:lnSpc>
                                                                                        <a:tabLst>
                                                                                          <a:tab algn="l" pos="0"/>
                                                                                          <a:tab algn="l" pos="914400"/>
                                                                                          <a:tab algn="l" pos="1828800"/>
                                                                                          <a:tab algn="l" pos="2743200"/>
                                                                                          <a:tab algn="l" pos="3657600"/>
                                                                                          <a:tab algn="l" pos="4572000"/>
                                                                                          <a:tab algn="l" pos="5486400"/>
                                                                                          <a:tab algn="l" pos="6400800"/>
                                                                                          <a:tab algn="l" pos="7315200"/>
                                                                                          <a:tab algn="l" pos="8229600"/>
                                                                                          <a:tab algn="l" pos="9144000"/>
                                                                                          <a:tab algn="l" pos="10058400"/>
                                                                                        </a:tabLst>
                                                                                      </a:pPr>
                                                                                      <a:r>
                                                                                        <a:rPr b="1" lang="en-US" sz="1200" spc="-1" strike="noStrike"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atin typeface="Times New Roman"/>
                                                                                        </a:rPr>
                                                                                        <a:t>Кинель</a:t>
                                                                                      </a:r>
                                                                                      <a:endParaRPr b="0" lang="en-US" sz="1200" spc="-1" strike="noStrike">
                                                                                        <a:solidFill>
                                                                                          <a:srgbClr val="ffffff"/>
                                                                                        </a:solidFill>
                                                                                        <a:latin typeface="Arial"/>
                                                                                      </a:endParaRPr>
                                                                                    </a:p>
                                                                                  </p:txBody>
                                                                                </p:sp>
                                                                              </p:grpSp>
                                                                              <p:sp>
                                                                                <p:nvSpPr>
                                                                                  <p:cNvPr id="424" name=""/>
                                                                                  <p:cNvSpPr/>
                                                                                  <p:nvPr/>
                                                                                </p:nvSpPr>
                                                                                <p:spPr>
                                                                                  <a:xfrm flipV="1">
                                                                                    <a:off x="6156360" y="2709360"/>
                                                                                    <a:ext cx="144360" cy="431640"/>
                                                                                  </a:xfrm>
                                                                                  <a:prstGeom prst="line">
                                                                                    <a:avLst/>
                                                                                  </a:prstGeom>
                                                                                  <a:ln w="28440">
                                                                                    <a:solidFill>
                                                                                      <a:srgbClr val="ff00ff"/>
                                                                                    </a:solidFill>
                                                                                    <a:miter/>
                                                                                    <a:tailEnd len="med" type="triangle" w="med"/>
                                                                                  </a:ln>
                                                                                </p:spPr>
                                                                                <p:style>
                                                                                  <a:lnRef idx="0"/>
                                                                                  <a:fillRef idx="0"/>
                                                                                  <a:effectRef idx="0"/>
                                                                                  <a:fontRef idx="minor"/>
                                                                                </p:style>
                                                                                <p:txBody>
                                                                                  <a:bodyPr lIns="90000" rIns="90000" tIns="46800" bIns="46800" anchor="t">
                                                                                    <a:noAutofit/>
                                                                                  </a:bodyPr>
                                                                                  <a:p>
                                                                                    <a:endParaRPr b="0" lang="en-US" sz="1800" spc="-1" strike="noStrike">
                                                                                      <a:solidFill>
                                                                                        <a:srgbClr val="ffffff"/>
                                                                                      </a:solidFill>
                                                                                      <a:latin typeface="Arial"/>
                                                                                    </a:endParaRPr>
                                                                                  </a:p>
                                                                                </p:txBody>
                                                                              </p:sp>
                                                                            </p:grpSp>
                                                                            <p:sp>
                                                                              <p:nvSpPr>
                                                                                <p:cNvPr id="425" name=""/>
                                                                                <p:cNvSpPr/>
                                                                                <p:nvPr/>
                                                                              </p:nvSpPr>
                                                                              <p:spPr>
                                                                                <a:xfrm flipH="1">
                                                                                  <a:off x="6948360" y="2493720"/>
                                                                                  <a:ext cx="720720" cy="503280"/>
                                                                                </a:xfrm>
                                                                                <a:prstGeom prst="line">
                                                                                  <a:avLst/>
                                                                                </a:prstGeom>
                                                                                <a:ln w="9360">
                                                                                  <a:solidFill>
                                                                                    <a:srgbClr val="ffffff"/>
                                                                                  </a:solidFill>
                                                                                  <a:miter/>
                                                                                  <a:tailEnd len="med" type="triangle" w="med"/>
                                                                                </a:ln>
                                                                              </p:spPr>
                                                                              <p:style>
                                                                                <a:lnRef idx="0"/>
                                                                                <a:fillRef idx="0"/>
                                                                                <a:effectRef idx="0"/>
                                                                                <a:fontRef idx="minor"/>
                                                                              </p:style>
                                                                              <p:txBody>
                                                                                <a:bodyPr lIns="90000" rIns="90000" tIns="46800" bIns="46800" anchor="t">
                                                                                  <a:noAutofit/>
                                                                                </a:bodyPr>
                                                                                <a:p>
                                                                                  <a:endParaRPr b="0" lang="en-US" sz="1800" spc="-1" strike="noStrike">
                                                                                    <a:solidFill>
                                                                                      <a:srgbClr val="ffffff"/>
                                                                                    </a:solidFill>
                                                                                    <a:latin typeface="Arial"/>
                                                                                  </a:endParaRPr>
                                                                                </a:p>
                                                                              </p:txBody>
                                                                            </p:sp>
                                                                            <p:sp>
                                                                              <p:nvSpPr>
                                                                                <p:cNvPr id="426" name=""/>
                                                                                <p:cNvSpPr/>
                                                                                <p:nvPr/>
                                                                              </p:nvSpPr>
                                                                              <p:spPr>
                                                                                <a:xfrm>
                                                                                  <a:off x="7451640" y="2277720"/>
                                                                                  <a:ext cx="1028880" cy="246240"/>
                                                                                </a:xfrm>
                                                                                <a:prstGeom prst="rect">
                                                                                  <a:avLst/>
                                                                                </a:prstGeom>
                                                                                <a:noFill/>
                                                                                <a:ln w="0">
                                                                                  <a:noFill/>
                                                                                </a:ln>
                                                                              </p:spPr>
                                                                              <p:style>
                                                                                <a:lnRef idx="0"/>
                                                                                <a:fillRef idx="0"/>
                                                                                <a:effectRef idx="0"/>
                                                                                <a:fontRef idx="minor"/>
                                                                              </p:style>
                                                                              <p:txBody>
                                                                                <a:bodyPr lIns="90000" rIns="90000" tIns="46800" bIns="46800" anchor="t">
                                                                                  <a:spAutoFit/>
                                                                                </a:bodyPr>
                                                                                <a:p>
                                                                                  <a:pPr algn="ctr">
                                                                                    <a:lnSpc>
                                                                                      <a:spcPct val="100000"/>
                                                                                    </a:lnSpc>
                                                                                    <a:tabLst>
                                                                                      <a:tab algn="l" pos="0"/>
                                                                                      <a:tab algn="l" pos="914400"/>
                                                                                      <a:tab algn="l" pos="1828800"/>
                                                                                      <a:tab algn="l" pos="2743200"/>
                                                                                      <a:tab algn="l" pos="3657600"/>
                                                                                      <a:tab algn="l" pos="4572000"/>
                                                                                      <a:tab algn="l" pos="5486400"/>
                                                                                      <a:tab algn="l" pos="6400800"/>
                                                                                      <a:tab algn="l" pos="7315200"/>
                                                                                      <a:tab algn="l" pos="8229600"/>
                                                                                      <a:tab algn="l" pos="9144000"/>
                                                                                      <a:tab algn="l" pos="10058400"/>
                                                                                    </a:tabLst>
                                                                                  </a:pPr>
                                                                                  <a:r>
                                                                                    <a:rPr b="0" lang="en-US" sz="1000" spc="-1" strike="noStrike" u="sng">
                                                                                      <a:solidFill>
                                                                                        <a:srgbClr val="ffffff"/>
                                                                                      </a:solidFill>
                                                                                      <a:uFillTx/>
                                                                                      <a:latin typeface="Times New Roman"/>
                                                                                    </a:rPr>
                                                                                    <a:t>Алексеевка</a:t>
                                                                                  </a:r>
                                                                                  <a:endParaRPr b="0" lang="en-US" sz="1000" spc="-1" strike="noStrike">
                                                                                    <a:solidFill>
                                                                                      <a:srgbClr val="ffffff"/>
                                                                                    </a:solidFill>
                                                                                    <a:latin typeface="Arial"/>
                                                                                  </a:endParaRPr>
                                                                                </a:p>
                                                                              </p:txBody>
                                                                            </p:sp>
                                                                          </p:grpSp>
                                                                          <p:sp>
                                                                            <p:nvSpPr>
                                                                              <p:cNvPr id="427" name=""/>
                                                                              <p:cNvSpPr/>
                                                                              <p:nvPr/>
                                                                            </p:nvSpPr>
                                                                            <p:spPr>
                                                                              <a:xfrm>
                                                                                <a:off x="7380360" y="2636640"/>
                                                                                <a:ext cx="1297080" cy="246240"/>
                                                                              </a:xfrm>
                                                                              <a:prstGeom prst="rect">
                                                                                <a:avLst/>
                                                                              </a:prstGeom>
                                                                              <a:noFill/>
                                                                              <a:ln w="0">
                                                                                <a:noFill/>
                                                                              </a:ln>
                                                                            </p:spPr>
                                                                            <p:style>
                                                                              <a:lnRef idx="0"/>
                                                                              <a:fillRef idx="0"/>
                                                                              <a:effectRef idx="0"/>
                                                                              <a:fontRef idx="minor"/>
                                                                            </p:style>
                                                                            <p:txBody>
                                                                              <a:bodyPr lIns="90000" rIns="90000" tIns="46800" bIns="46800" anchor="t">
                                                                                <a:spAutoFit/>
                                                                              </a:bodyPr>
                                                                              <a:p>
                                                                                <a:pPr algn="ctr">
                                                                                  <a:lnSpc>
                                                                                    <a:spcPct val="100000"/>
                                                                                  </a:lnSpc>
                                                                                  <a:tabLst>
                                                                                    <a:tab algn="l" pos="0"/>
                                                                                    <a:tab algn="l" pos="914400"/>
                                                                                    <a:tab algn="l" pos="1828800"/>
                                                                                    <a:tab algn="l" pos="2743200"/>
                                                                                    <a:tab algn="l" pos="3657600"/>
                                                                                    <a:tab algn="l" pos="4572000"/>
                                                                                    <a:tab algn="l" pos="5486400"/>
                                                                                    <a:tab algn="l" pos="6400800"/>
                                                                                    <a:tab algn="l" pos="7315200"/>
                                                                                    <a:tab algn="l" pos="8229600"/>
                                                                                    <a:tab algn="l" pos="9144000"/>
                                                                                    <a:tab algn="l" pos="10058400"/>
                                                                                  </a:tabLst>
                                                                                </a:pPr>
                                                                                <a:r>
                                                                                  <a:rPr b="0" lang="en-US" sz="1000" spc="-1" strike="noStrike">
                                                                                    <a:solidFill>
                                                                                      <a:srgbClr val="ffffff"/>
                                                                                    </a:solidFill>
                                                                                    <a:latin typeface="Times New Roman"/>
                                                                                  </a:rPr>
                                                                                  <a:t>Усть Кинельский</a:t>
                                                                                </a:r>
                                                                                <a:endParaRPr b="0" lang="en-US" sz="1000" spc="-1" strike="noStrike">
                                                                                  <a:solidFill>
                                                                                    <a:srgbClr val="ffffff"/>
                                                                                  </a:solidFill>
                                                                                  <a:latin typeface="Arial"/>
                                                                                </a:endParaRPr>
                                                                              </a:p>
                                                                            </p:txBody>
                                                                          </p:sp>
                                                                        </p:grpSp>
                                                                        <p:sp>
                                                                          <p:nvSpPr>
                                                                            <p:cNvPr id="428" name=""/>
                                                                            <p:cNvSpPr/>
                                                                            <p:nvPr/>
                                                                          </p:nvSpPr>
                                                                          <p:spPr>
                                                                            <a:xfrm>
                                                                              <a:off x="8259840" y="2997000"/>
                                                                              <a:ext cx="884160" cy="246240"/>
                                                                            </a:xfrm>
                                                                            <a:prstGeom prst="rect">
                                                                              <a:avLst/>
                                                                            </a:prstGeom>
                                                                            <a:noFill/>
                                                                            <a:ln w="0">
                                                                              <a:noFill/>
                                                                            </a:ln>
                                                                          </p:spPr>
                                                                          <p:style>
                                                                            <a:lnRef idx="0"/>
                                                                            <a:fillRef idx="0"/>
                                                                            <a:effectRef idx="0"/>
                                                                            <a:fontRef idx="minor"/>
                                                                          </p:style>
                                                                          <p:txBody>
                                                                            <a:bodyPr lIns="90000" rIns="90000" tIns="46800" bIns="46800" anchor="t">
                                                                              <a:spAutoFit/>
                                                                            </a:bodyPr>
                                                                            <a:p>
                                                                              <a:pPr algn="ctr">
                                                                                <a:lnSpc>
                                                                                  <a:spcPct val="100000"/>
                                                                                </a:lnSpc>
                                                                                <a:tabLst>
                                                                                  <a:tab algn="l" pos="0"/>
                                                                                  <a:tab algn="l" pos="914400"/>
                                                                                  <a:tab algn="l" pos="1828800"/>
                                                                                  <a:tab algn="l" pos="2743200"/>
                                                                                  <a:tab algn="l" pos="3657600"/>
                                                                                  <a:tab algn="l" pos="4572000"/>
                                                                                  <a:tab algn="l" pos="5486400"/>
                                                                                  <a:tab algn="l" pos="6400800"/>
                                                                                  <a:tab algn="l" pos="7315200"/>
                                                                                  <a:tab algn="l" pos="8229600"/>
                                                                                  <a:tab algn="l" pos="9144000"/>
                                                                                  <a:tab algn="l" pos="10058400"/>
                                                                                </a:tabLst>
                                                                              </a:pPr>
                                                                              <a:r>
                                                                                <a:rPr b="0" lang="en-US" sz="1000" spc="-1" strike="noStrike">
                                                                                  <a:solidFill>
                                                                                    <a:srgbClr val="ffffff"/>
                                                                                  </a:solidFill>
                                                                                  <a:latin typeface="Times New Roman"/>
                                                                                </a:rPr>
                                                                                <a:t>Тургеневка</a:t>
                                                                              </a:r>
                                                                              <a:endParaRPr b="0" lang="en-US" sz="1000" spc="-1" strike="noStrike">
                                                                                <a:solidFill>
                                                                                  <a:srgbClr val="ffffff"/>
                                                                                </a:solidFill>
                                                                                <a:latin typeface="Arial"/>
                                                                              </a:endParaRPr>
                                                                            </a:p>
                                                                          </p:txBody>
                                                                        </p:sp>
                                                                      </p:grpSp>
                                                                      <p:sp>
                                                                        <p:nvSpPr>
                                                                          <p:cNvPr id="429" name=""/>
                                                                          <p:cNvSpPr/>
                                                                          <p:nvPr/>
                                                                        </p:nvSpPr>
                                                                        <p:spPr>
                                                                          <a:xfrm>
                                                                            <a:off x="6588000" y="3090600"/>
                                                                            <a:ext cx="792360" cy="276480"/>
                                                                          </a:xfrm>
                                                                          <a:prstGeom prst="rect">
                                                                            <a:avLst/>
                                                                          </a:prstGeom>
                                                                          <a:noFill/>
                                                                          <a:ln w="0">
                                                                            <a:noFill/>
                                                                          </a:ln>
                                                                        </p:spPr>
                                                                        <p:style>
                                                                          <a:lnRef idx="0"/>
                                                                          <a:fillRef idx="0"/>
                                                                          <a:effectRef idx="0"/>
                                                                          <a:fontRef idx="minor"/>
                                                                        </p:style>
                                                                        <p:txBody>
                                                                          <a:bodyPr lIns="90000" rIns="90000" tIns="46800" bIns="46800" anchor="t">
                                                                            <a:spAutoFit/>
                                                                          </a:bodyPr>
                                                                          <a:p>
                                                                            <a:pPr algn="ctr">
                                                                              <a:lnSpc>
                                                                                <a:spcPct val="100000"/>
                                                                              </a:lnSpc>
                                                                              <a:tabLst>
                                                                                <a:tab algn="l" pos="0"/>
                                                                                <a:tab algn="l" pos="914400"/>
                                                                                <a:tab algn="l" pos="1828800"/>
                                                                                <a:tab algn="l" pos="2743200"/>
                                                                                <a:tab algn="l" pos="3657600"/>
                                                                                <a:tab algn="l" pos="4572000"/>
                                                                                <a:tab algn="l" pos="5486400"/>
                                                                                <a:tab algn="l" pos="6400800"/>
                                                                                <a:tab algn="l" pos="7315200"/>
                                                                                <a:tab algn="l" pos="8229600"/>
                                                                                <a:tab algn="l" pos="9144000"/>
                                                                                <a:tab algn="l" pos="10058400"/>
                                                                              </a:tabLst>
                                                                            </a:pPr>
                                                                            <a:r>
                                                                              <a:rPr b="1" lang="en-US" sz="1200" spc="-1" strike="noStrike" u="sng">
                                                                                <a:solidFill>
                                                                                  <a:srgbClr val="ffffff"/>
                                                                                </a:solidFill>
                                                                                <a:uFillTx/>
                                                                                <a:latin typeface="Times New Roman"/>
                                                                              </a:rPr>
                                                                              <a:t>№</a:t>
                                                                            </a:r>
                                                                            <a:r>
                                                                              <a:rPr b="1" lang="en-US" sz="1200" spc="-1" strike="noStrike" u="sng">
                                                                                <a:solidFill>
                                                                                  <a:srgbClr val="ffffff"/>
                                                                                </a:solidFill>
                                                                                <a:uFillTx/>
                                                                                <a:latin typeface="Times New Roman"/>
                                                                              </a:rPr>
                                                                              <a:t>12П</a:t>
                                                                            </a:r>
                                                                            <a:endParaRPr b="0" lang="en-US" sz="1200" spc="-1" strike="noStrike">
                                                                              <a:solidFill>
                                                                                <a:srgbClr val="ffffff"/>
                                                                              </a:solidFill>
                                                                              <a:latin typeface="Arial"/>
                                                                            </a:endParaRPr>
                                                                          </a:p>
                                                                        </p:txBody>
                                                                      </p:sp>
                                                                      <p:sp>
                                                                        <p:nvSpPr>
                                                                          <p:cNvPr id="430" name=""/>
                                                                          <p:cNvSpPr/>
                                                                          <p:nvPr/>
                                                                        </p:nvSpPr>
                                                                        <p:spPr>
                                                                          <a:xfrm flipH="1" flipV="1">
                                                                            <a:off x="6588000" y="3212280"/>
                                                                            <a:ext cx="144720" cy="73080"/>
                                                                          </a:xfrm>
                                                                          <a:prstGeom prst="line">
                                                                            <a:avLst/>
                                                                          </a:prstGeom>
                                                                          <a:ln w="9360">
                                                                            <a:solidFill>
                                                                              <a:srgbClr val="ffffff"/>
                                                                            </a:solidFill>
                                                                            <a:miter/>
                                                                            <a:tailEnd len="med" type="triangle" w="med"/>
                                                                          </a:ln>
                                                                        </p:spPr>
                                                                        <p:style>
                                                                          <a:lnRef idx="0"/>
                                                                          <a:fillRef idx="0"/>
                                                                          <a:effectRef idx="0"/>
                                                                          <a:fontRef idx="minor"/>
                                                                        </p:style>
                                                                        <p:txBody>
                                                                          <a:bodyPr lIns="90000" rIns="90000" tIns="26280" bIns="26280" anchor="t">
                                                                            <a:noAutofit/>
                                                                          </a:bodyPr>
                                                                          <a:p>
                                                                            <a:endParaRPr b="0" lang="en-US" sz="1800" spc="-1" strike="noStrike">
                                                                              <a:solidFill>
                                                                                <a:srgbClr val="ffffff"/>
                                                                              </a:solidFill>
                                                                              <a:latin typeface="Arial"/>
                                                                            </a:endParaRPr>
                                                                          </a:p>
                                                                        </p:txBody>
                                                                      </p:sp>
                                                                    </p:grpSp>
                                                                    <p:sp>
                                                                      <p:nvSpPr>
                                                                        <p:cNvPr id="431" name=""/>
                                                                        <p:cNvSpPr/>
                                                                        <p:nvPr/>
                                                                      </p:nvSpPr>
                                                                      <p:spPr>
                                                                        <a:xfrm>
                                                                          <a:off x="7451640" y="3428640"/>
                                                                          <a:ext cx="955800" cy="246240"/>
                                                                        </a:xfrm>
                                                                        <a:prstGeom prst="rect">
                                                                          <a:avLst/>
                                                                        </a:prstGeom>
                                                                        <a:noFill/>
                                                                        <a:ln w="0">
                                                                          <a:noFill/>
                                                                        </a:ln>
                                                                      </p:spPr>
                                                                      <p:style>
                                                                        <a:lnRef idx="0"/>
                                                                        <a:fillRef idx="0"/>
                                                                        <a:effectRef idx="0"/>
                                                                        <a:fontRef idx="minor"/>
                                                                      </p:style>
                                                                      <p:txBody>
                                                                        <a:bodyPr lIns="90000" rIns="90000" tIns="46800" bIns="46800" anchor="t">
                                                                          <a:spAutoFit/>
                                                                        </a:bodyPr>
                                                                        <a:p>
                                                                          <a:pPr algn="ctr">
                                                                            <a:lnSpc>
                                                                              <a:spcPct val="100000"/>
                                                                            </a:lnSpc>
                                                                            <a:tabLst>
                                                                              <a:tab algn="l" pos="0"/>
                                                                              <a:tab algn="l" pos="914400"/>
                                                                              <a:tab algn="l" pos="1828800"/>
                                                                              <a:tab algn="l" pos="2743200"/>
                                                                              <a:tab algn="l" pos="3657600"/>
                                                                              <a:tab algn="l" pos="4572000"/>
                                                                              <a:tab algn="l" pos="5486400"/>
                                                                              <a:tab algn="l" pos="6400800"/>
                                                                              <a:tab algn="l" pos="7315200"/>
                                                                              <a:tab algn="l" pos="8229600"/>
                                                                              <a:tab algn="l" pos="9144000"/>
                                                                              <a:tab algn="l" pos="10058400"/>
                                                                            </a:tabLst>
                                                                          </a:pPr>
                                                                          <a:r>
                                                                            <a:rPr b="0" lang="en-US" sz="1000" spc="-1" strike="noStrike">
                                                                              <a:solidFill>
                                                                                <a:srgbClr val="ffffff"/>
                                                                              </a:solidFill>
                                                                              <a:latin typeface="Times New Roman"/>
                                                                            </a:rPr>
                                                                            <a:t>Бобровка</a:t>
                                                                          </a:r>
                                                                          <a:endParaRPr b="0" lang="en-US" sz="1000" spc="-1" strike="noStrike">
                                                                            <a:solidFill>
                                                                              <a:srgbClr val="ffffff"/>
                                                                            </a:solidFill>
                                                                            <a:latin typeface="Arial"/>
                                                                          </a:endParaRPr>
                                                                        </a:p>
                                                                      </p:txBody>
                                                                    </p:sp>
                                                                  </p:grpSp>
                                                                  <p:sp>
                                                                    <p:nvSpPr>
                                                                      <p:cNvPr id="432" name=""/>
                                                                      <p:cNvSpPr/>
                                                                      <p:nvPr/>
                                                                    </p:nvSpPr>
                                                                    <p:spPr>
                                                                      <a:xfrm>
                                                                        <a:off x="7740720" y="4005000"/>
                                                                        <a:ext cx="1244520" cy="246240"/>
                                                                      </a:xfrm>
                                                                      <a:prstGeom prst="rect">
                                                                        <a:avLst/>
                                                                      </a:prstGeom>
                                                                      <a:noFill/>
                                                                      <a:ln w="0">
                                                                        <a:noFill/>
                                                                      </a:ln>
                                                                    </p:spPr>
                                                                    <p:style>
                                                                      <a:lnRef idx="0"/>
                                                                      <a:fillRef idx="0"/>
                                                                      <a:effectRef idx="0"/>
                                                                      <a:fontRef idx="minor"/>
                                                                    </p:style>
                                                                    <p:txBody>
                                                                      <a:bodyPr lIns="90000" rIns="90000" tIns="46800" bIns="46800" anchor="t">
                                                                        <a:spAutoFit/>
                                                                      </a:bodyPr>
                                                                      <a:p>
                                                                        <a:pPr algn="ctr">
                                                                          <a:lnSpc>
                                                                            <a:spcPct val="100000"/>
                                                                          </a:lnSpc>
                                                                          <a:tabLst>
                                                                            <a:tab algn="l" pos="0"/>
                                                                            <a:tab algn="l" pos="914400"/>
                                                                            <a:tab algn="l" pos="1828800"/>
                                                                            <a:tab algn="l" pos="2743200"/>
                                                                            <a:tab algn="l" pos="3657600"/>
                                                                            <a:tab algn="l" pos="4572000"/>
                                                                            <a:tab algn="l" pos="5486400"/>
                                                                            <a:tab algn="l" pos="6400800"/>
                                                                            <a:tab algn="l" pos="7315200"/>
                                                                            <a:tab algn="l" pos="8229600"/>
                                                                            <a:tab algn="l" pos="9144000"/>
                                                                            <a:tab algn="l" pos="10058400"/>
                                                                          </a:tabLst>
                                                                        </a:pPr>
                                                                        <a:r>
                                                                          <a:rPr b="0" lang="en-US" sz="1000" spc="-1" strike="noStrike">
                                                                            <a:solidFill>
                                                                              <a:srgbClr val="ffffff"/>
                                                                            </a:solidFill>
                                                                            <a:latin typeface="Times New Roman"/>
                                                                          </a:rPr>
                                                                          <a:t>Красносамиарское</a:t>
                                                                        </a:r>
                                                                        <a:endParaRPr b="0" lang="en-US" sz="1000" spc="-1" strike="noStrike">
                                                                          <a:solidFill>
                                                                            <a:srgbClr val="ffffff"/>
                                                                          </a:solidFill>
                                                                          <a:latin typeface="Arial"/>
                                                                        </a:endParaRPr>
                                                                      </a:p>
                                                                    </p:txBody>
                                                                  </p:sp>
                                                                </p:grpSp>
                                                                <p:sp>
                                                                  <p:nvSpPr>
                                                                    <p:cNvPr id="433" name=""/>
                                                                    <p:cNvSpPr/>
                                                                    <p:nvPr/>
                                                                  </p:nvSpPr>
                                                                  <p:spPr>
                                                                    <a:xfrm>
                                                                      <a:off x="7956720" y="3717720"/>
                                                                      <a:ext cx="992160" cy="246240"/>
                                                                    </a:xfrm>
                                                                    <a:prstGeom prst="rect">
                                                                      <a:avLst/>
                                                                    </a:prstGeom>
                                                                    <a:noFill/>
                                                                    <a:ln w="0">
                                                                      <a:noFill/>
                                                                    </a:ln>
                                                                  </p:spPr>
                                                                  <p:style>
                                                                    <a:lnRef idx="0"/>
                                                                    <a:fillRef idx="0"/>
                                                                    <a:effectRef idx="0"/>
                                                                    <a:fontRef idx="minor"/>
                                                                  </p:style>
                                                                  <p:txBody>
                                                                    <a:bodyPr lIns="90000" rIns="90000" tIns="46800" bIns="46800" anchor="t">
                                                                      <a:spAutoFit/>
                                                                    </a:bodyPr>
                                                                    <a:p>
                                                                      <a:pPr algn="ctr">
                                                                        <a:lnSpc>
                                                                          <a:spcPct val="100000"/>
                                                                        </a:lnSpc>
                                                                        <a:tabLst>
                                                                          <a:tab algn="l" pos="0"/>
                                                                          <a:tab algn="l" pos="914400"/>
                                                                          <a:tab algn="l" pos="1828800"/>
                                                                          <a:tab algn="l" pos="2743200"/>
                                                                          <a:tab algn="l" pos="3657600"/>
                                                                          <a:tab algn="l" pos="4572000"/>
                                                                          <a:tab algn="l" pos="5486400"/>
                                                                          <a:tab algn="l" pos="6400800"/>
                                                                          <a:tab algn="l" pos="7315200"/>
                                                                          <a:tab algn="l" pos="8229600"/>
                                                                          <a:tab algn="l" pos="9144000"/>
                                                                          <a:tab algn="l" pos="10058400"/>
                                                                        </a:tabLst>
                                                                      </a:pPr>
                                                                      <a:r>
                                                                        <a:rPr b="0" lang="en-US" sz="1000" spc="-1" strike="noStrike">
                                                                          <a:solidFill>
                                                                            <a:srgbClr val="ffffff"/>
                                                                          </a:solidFill>
                                                                          <a:latin typeface="Times New Roman"/>
                                                                        </a:rPr>
                                                                        <a:t>М.Малышевка</a:t>
                                                                      </a:r>
                                                                      <a:endParaRPr b="0" lang="en-US" sz="1000" spc="-1" strike="noStrike">
                                                                        <a:solidFill>
                                                                          <a:srgbClr val="ffffff"/>
                                                                        </a:solidFill>
                                                                        <a:latin typeface="Arial"/>
                                                                      </a:endParaRPr>
                                                                    </a:p>
                                                                  </p:txBody>
                                                                </p:sp>
                                                              </p:grpSp>
                                                              <p:sp>
                                                                <p:nvSpPr>
                                                                  <p:cNvPr id="434" name="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8296200" y="3357360"/>
                                                                    <a:ext cx="668520" cy="42876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noFill/>
                                                                  <a:ln w="0">
                                                                    <a:noFill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t">
                                                                    <a:spAutoFit/>
                                                                  </a:bodyPr>
                                                                  <a:p>
                                                                    <a:pPr algn="ctr">
                                                                      <a:lnSpc>
                                                                        <a:spcPct val="100000"/>
                                                                      </a:lnSpc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r>
                                                                      <a:rPr b="1" lang="en-US" sz="1100" spc="-1" strike="noStrike" u="sng">
                                                                        <a:solidFill>
                                                                          <a:srgbClr val="ffffff"/>
                                                                        </a:solidFill>
                                                                        <a:uFillTx/>
                                                                        <a:latin typeface="Times New Roman"/>
                                                                      </a:rPr>
                                                                      <a:t>№</a:t>
                                                                    </a:r>
                                                                    <a:r>
                                                                      <a:rPr b="1" lang="en-US" sz="1100" spc="-1" strike="noStrike" u="sng">
                                                                        <a:solidFill>
                                                                          <a:srgbClr val="ffffff"/>
                                                                        </a:solidFill>
                                                                        <a:uFillTx/>
                                                                        <a:latin typeface="Times New Roman"/>
                                                                      </a:rPr>
                                                                      <a:t>36/1П</a:t>
                                                                    </a:r>
                                                                    <a:endParaRPr b="0" lang="en-US" sz="1100" spc="-1" strike="noStrike">
                                                                      <a:solidFill>
                                                                        <a:srgbClr val="ffffff"/>
                                                                      </a:solidFill>
                                                                      <a:latin typeface="Arial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435" name="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 flipH="1">
                                                                    <a:off x="7811640" y="3573000"/>
                                                                    <a:ext cx="647640" cy="216000"/>
                                                                  </a:xfrm>
                                                                  <a:prstGeom prst="line">
                                                                    <a:avLst/>
                                                                  </a:prstGeom>
                                                                  <a:ln w="9360">
                                                                    <a:solidFill>
                                                                      <a:srgbClr val="ffffff"/>
                                                                    </a:solidFill>
                                                                    <a:miter/>
                                                                    <a:tailEnd len="med" type="triangle" w="med"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t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ffffff"/>
                                                                      </a:solidFill>
                                                                      <a:latin typeface="Arial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</p:grpSp>
                                                            <p:sp>
                                                              <p:nvSpPr>
                                                                <p:cNvPr id="436" name=""/>
                                                                <p:cNvSpPr/>
                                                                <p:nvPr/>
                                                              </p:nvSpPr>
                                                              <p:spPr>
                                                                <a:xfrm>
                                                                  <a:off x="6588000" y="3646080"/>
                                                                  <a:ext cx="1008360" cy="246240"/>
                                                                </a:xfrm>
                                                                <a:prstGeom prst="rect">
                                                                  <a:avLst/>
                                                                </a:prstGeom>
                                                                <a:noFill/>
                                                                <a:ln w="0">
                                                                  <a:noFill/>
                                                                </a:ln>
                                                              </p:spPr>
                                                              <p:style>
                                                                <a:lnRef idx="0"/>
                                                                <a:fillRef idx="0"/>
                                                                <a:effectRef idx="0"/>
                                                                <a:fontRef idx="minor"/>
                                                              </p:style>
                                                              <p:txBody>
                                                                <a:bodyPr lIns="90000" rIns="90000" tIns="46800" bIns="46800" anchor="t">
                                                                  <a:spAutoFit/>
                                                                </a:bodyPr>
                                                                <a:p>
                                                                  <a:pPr algn="ctr">
                                                                    <a:lnSpc>
                                                                      <a:spcPct val="100000"/>
                                                                    </a:lnSpc>
                                                                    <a:tabLst>
                                                                      <a:tab algn="l" pos="0"/>
                                                                      <a:tab algn="l" pos="914400"/>
                                                                      <a:tab algn="l" pos="1828800"/>
                                                                      <a:tab algn="l" pos="2743200"/>
                                                                      <a:tab algn="l" pos="3657600"/>
                                                                      <a:tab algn="l" pos="4572000"/>
                                                                      <a:tab algn="l" pos="5486400"/>
                                                                      <a:tab algn="l" pos="6400800"/>
                                                                      <a:tab algn="l" pos="7315200"/>
                                                                      <a:tab algn="l" pos="8229600"/>
                                                                      <a:tab algn="l" pos="9144000"/>
                                                                      <a:tab algn="l" pos="10058400"/>
                                                                    </a:tabLst>
                                                                  </a:pPr>
                                                                  <a:r>
                                                                    <a:rPr b="0" lang="en-US" sz="1000" spc="-1" strike="noStrike">
                                                                      <a:solidFill>
                                                                        <a:srgbClr val="ffffff"/>
                                                                      </a:solidFill>
                                                                      <a:latin typeface="Times New Roman"/>
                                                                    </a:rPr>
                                                                    <a:t>Спиридоновка</a:t>
                                                                  </a:r>
                                                                  <a:endParaRPr b="0" lang="en-US" sz="1000" spc="-1" strike="noStrike">
                                                                    <a:solidFill>
                                                                      <a:srgbClr val="ffffff"/>
                                                                    </a:solidFill>
                                                                    <a:latin typeface="Arial"/>
                                                                  </a:endParaRPr>
                                                                </a:p>
                                                              </p:txBody>
                                                            </p:sp>
                                                          </p:grpSp>
                                                          <p:sp>
                                                            <p:nvSpPr>
                                                              <p:cNvPr id="437" name=""/>
                                                              <p:cNvSpPr/>
                                                              <p:nvPr/>
                                                            </p:nvSpPr>
                                                            <p:spPr>
                                                              <a:xfrm>
                                                                <a:off x="6300720" y="3501720"/>
                                                                <a:ext cx="955800" cy="246240"/>
                                                              </a:xfrm>
                                                              <a:prstGeom prst="rect">
                                                                <a:avLst/>
                                                              </a:prstGeom>
                                                              <a:noFill/>
                                                              <a:ln w="0">
                                                                <a:noFill/>
                                                              </a:ln>
                                                            </p:spPr>
                                                            <p:style>
                                                              <a:lnRef idx="0"/>
                                                              <a:fillRef idx="0"/>
                                                              <a:effectRef idx="0"/>
                                                              <a:fontRef idx="minor"/>
                                                            </p:style>
                                                            <p:txBody>
                                                              <a:bodyPr lIns="90000" rIns="90000" tIns="46800" bIns="46800" anchor="t">
                                                                <a:spAutoFit/>
                                                              </a:bodyPr>
                                                              <a:p>
                                                                <a:pPr algn="ctr">
                                                                  <a:lnSpc>
                                                                    <a:spcPct val="100000"/>
                                                                  </a:lnSpc>
                                                                  <a:tabLst>
                                                                    <a:tab algn="l" pos="0"/>
                                                                    <a:tab algn="l" pos="914400"/>
                                                                    <a:tab algn="l" pos="1828800"/>
                                                                    <a:tab algn="l" pos="2743200"/>
                                                                    <a:tab algn="l" pos="3657600"/>
                                                                    <a:tab algn="l" pos="4572000"/>
                                                                    <a:tab algn="l" pos="5486400"/>
                                                                    <a:tab algn="l" pos="6400800"/>
                                                                    <a:tab algn="l" pos="7315200"/>
                                                                    <a:tab algn="l" pos="8229600"/>
                                                                    <a:tab algn="l" pos="9144000"/>
                                                                    <a:tab algn="l" pos="10058400"/>
                                                                  </a:tabLst>
                                                                </a:pPr>
                                                                <a:r>
                                                                  <a:rPr b="0" lang="en-US" sz="1000" spc="-1" strike="noStrike">
                                                                    <a:solidFill>
                                                                      <a:srgbClr val="ffffff"/>
                                                                    </a:solidFill>
                                                                    <a:latin typeface="Times New Roman"/>
                                                                  </a:rPr>
                                                                  <a:t>Николоевка</a:t>
                                                                </a:r>
                                                                <a:endParaRPr b="0" lang="en-US" sz="1000" spc="-1" strike="noStrike"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atin typeface="Arial"/>
                                                                </a:endParaRPr>
                                                              </a:p>
                                                            </p:txBody>
                                                          </p:sp>
                                                        </p:grpSp>
                                                        <p:sp>
                                                          <p:nvSpPr>
                                                            <p:cNvPr id="43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7740720" y="4365360"/>
                                                              <a:ext cx="790560" cy="246240"/>
                                                            </a:xfrm>
                                                            <a:prstGeom prst="rect">
                                                              <a:avLst/>
                                                            </a:prstGeom>
                                                            <a:noFill/>
                                                            <a:ln w="0">
                                                              <a:noFill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spAutoFit/>
                                                            </a:bodyPr>
                                                            <a:p>
                                                              <a:pPr algn="ctr">
                                                                <a:lnSpc>
                                                                  <a:spcPct val="100000"/>
                                                                </a:lnSpc>
                                                                <a:tabLst>
                                                                  <a:tab algn="l" pos="0"/>
                                                                  <a:tab algn="l" pos="914400"/>
                                                                  <a:tab algn="l" pos="1828800"/>
                                                                  <a:tab algn="l" pos="2743200"/>
                                                                  <a:tab algn="l" pos="3657600"/>
                                                                  <a:tab algn="l" pos="4572000"/>
                                                                  <a:tab algn="l" pos="5486400"/>
                                                                  <a:tab algn="l" pos="6400800"/>
                                                                  <a:tab algn="l" pos="7315200"/>
                                                                  <a:tab algn="l" pos="8229600"/>
                                                                  <a:tab algn="l" pos="9144000"/>
                                                                  <a:tab algn="l" pos="10058400"/>
                                                                </a:tabLst>
                                                              </a:pPr>
                                                              <a:r>
                                                                <a:rPr b="0" lang="en-US" sz="1000" spc="-1" strike="noStrike"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atin typeface="Times New Roman"/>
                                                                </a:rPr>
                                                                <a:t>Домашка</a:t>
                                                              </a:r>
                                                              <a:endParaRPr b="0" lang="en-US" sz="1000" spc="-1" strike="noStrike">
                                                                <a:solidFill>
                                                                  <a:srgbClr val="ffffff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439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7667640" y="4149360"/>
                                                            <a:ext cx="741240" cy="2764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noFill/>
                                                          <a:ln w="0">
                                                            <a:noFill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spAutoFit/>
                                                          </a:bodyPr>
                                                          <a:p>
                                                            <a:pPr algn="ctr">
                                                              <a:lnSpc>
                                                                <a:spcPct val="100000"/>
                                                              </a:lnSpc>
                                                              <a:tabLst>
                                                                <a:tab algn="l" pos="0"/>
                                                                <a:tab algn="l" pos="914400"/>
                                                                <a:tab algn="l" pos="1828800"/>
                                                                <a:tab algn="l" pos="2743200"/>
                                                                <a:tab algn="l" pos="3657600"/>
                                                                <a:tab algn="l" pos="4572000"/>
                                                                <a:tab algn="l" pos="5486400"/>
                                                                <a:tab algn="l" pos="6400800"/>
                                                                <a:tab algn="l" pos="7315200"/>
                                                                <a:tab algn="l" pos="8229600"/>
                                                                <a:tab algn="l" pos="9144000"/>
                                                                <a:tab algn="l" pos="10058400"/>
                                                              </a:tabLst>
                                                            </a:pPr>
                                                            <a:r>
                                                              <a:rPr b="1" lang="en-US" sz="1200" spc="-1" strike="noStrike">
                                                                <a:solidFill>
                                                                  <a:srgbClr val="ffffff"/>
                                                                </a:solidFill>
                                                                <a:latin typeface="Times New Roman"/>
                                                              </a:rPr>
                                                              <a:t>№</a:t>
                                                            </a:r>
                                                            <a:r>
                                                              <a:rPr b="1" lang="en-US" sz="1200" spc="-1" strike="noStrike">
                                                                <a:solidFill>
                                                                  <a:srgbClr val="ffffff"/>
                                                                </a:solidFill>
                                                                <a:latin typeface="Times New Roman"/>
                                                              </a:rPr>
                                                              <a:t>10П</a:t>
                                                            </a:r>
                                                            <a:endParaRPr b="0" lang="en-US" sz="1200" spc="-1" strike="noStrike">
                                                              <a:solidFill>
                                                                <a:srgbClr val="ffffff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440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667280" y="4365360"/>
                                                            <a:ext cx="5763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9360">
                                                            <a:solidFill>
                                                              <a:srgbClr val="ffffff"/>
                                                            </a:solidFill>
                                                            <a:miter/>
                                                            <a:tailEnd len="med" type="triangle" w="med"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ffffff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sp>
                                                      <p:nvSpPr>
                                                        <p:cNvPr id="441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8459640" y="4293720"/>
                                                          <a:ext cx="524160" cy="45900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noFill/>
                                                        <a:ln w="0">
                                                          <a:noFill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spAutoFit/>
                                                        </a:bodyPr>
                                                        <a:p>
                                                          <a:pPr algn="ctr">
                                                            <a:lnSpc>
                                                              <a:spcPct val="100000"/>
                                                            </a:lnSpc>
                                                            <a:tabLst>
                                                              <a:tab algn="l" pos="0"/>
                                                              <a:tab algn="l" pos="914400"/>
                                                              <a:tab algn="l" pos="1828800"/>
                                                              <a:tab algn="l" pos="2743200"/>
                                                              <a:tab algn="l" pos="3657600"/>
                                                              <a:tab algn="l" pos="4572000"/>
                                                              <a:tab algn="l" pos="5486400"/>
                                                              <a:tab algn="l" pos="6400800"/>
                                                              <a:tab algn="l" pos="7315200"/>
                                                              <a:tab algn="l" pos="8229600"/>
                                                              <a:tab algn="l" pos="9144000"/>
                                                              <a:tab algn="l" pos="10058400"/>
                                                            </a:tabLst>
                                                          </a:pPr>
                                                          <a:r>
                                                            <a:rPr b="1" lang="en-US" sz="1200" spc="-1" strike="noStrike" u="sng">
                                                              <a:solidFill>
                                                                <a:srgbClr val="ffffff"/>
                                                              </a:solidFill>
                                                              <a:uFillTx/>
                                                              <a:latin typeface="Times New Roman"/>
                                                            </a:rPr>
                                                            <a:t>№</a:t>
                                                          </a:r>
                                                          <a:r>
                                                            <a:rPr b="1" lang="en-US" sz="1200" spc="-1" strike="noStrike" u="sng">
                                                              <a:solidFill>
                                                                <a:srgbClr val="ffffff"/>
                                                              </a:solidFill>
                                                              <a:uFillTx/>
                                                              <a:latin typeface="Times New Roman"/>
                                                            </a:rPr>
                                                            <a:t>36П</a:t>
                                                          </a:r>
                                                          <a:endParaRPr b="0" lang="en-US" sz="1200" spc="-1" strike="noStrike">
                                                            <a:solidFill>
                                                              <a:srgbClr val="ffffff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442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 flipV="1">
                                                          <a:off x="8316720" y="3933000"/>
                                                          <a:ext cx="215640" cy="5763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9360">
                                                          <a:solidFill>
                                                            <a:srgbClr val="ffffff"/>
                                                          </a:solidFill>
                                                          <a:miter/>
                                                          <a:tailEnd len="med" type="triangle" w="med"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ffffff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sp>
                                                    <p:nvSpPr>
                                                      <p:cNvPr id="443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6588000" y="4078080"/>
                                                        <a:ext cx="668520" cy="24624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noFill/>
                                                      <a:ln w="0">
                                                        <a:noFill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spAutoFit/>
                                                      </a:bodyPr>
                                                      <a:p>
                                                        <a:pPr algn="ctr">
                                                          <a:lnSpc>
                                                            <a:spcPct val="100000"/>
                                                          </a:lnSpc>
                                                          <a:tabLst>
                                                            <a:tab algn="l" pos="0"/>
                                                            <a:tab algn="l" pos="914400"/>
                                                            <a:tab algn="l" pos="1828800"/>
                                                            <a:tab algn="l" pos="2743200"/>
                                                            <a:tab algn="l" pos="3657600"/>
                                                            <a:tab algn="l" pos="4572000"/>
                                                            <a:tab algn="l" pos="5486400"/>
                                                            <a:tab algn="l" pos="6400800"/>
                                                            <a:tab algn="l" pos="7315200"/>
                                                            <a:tab algn="l" pos="8229600"/>
                                                            <a:tab algn="l" pos="9144000"/>
                                                            <a:tab algn="l" pos="10058400"/>
                                                          </a:tabLst>
                                                        </a:pPr>
                                                        <a:r>
                                                          <a:rPr b="0" lang="en-US" sz="1000" spc="-1" strike="noStrike">
                                                            <a:solidFill>
                                                              <a:srgbClr val="ffffff"/>
                                                            </a:solidFill>
                                                            <a:latin typeface="Times New Roman"/>
                                                          </a:rPr>
                                                          <a:t>Просвет</a:t>
                                                        </a:r>
                                                        <a:endParaRPr b="0" lang="en-US" sz="1000" spc="-1" strike="noStrike">
                                                          <a:solidFill>
                                                            <a:srgbClr val="ffffff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sp>
                                                  <p:nvSpPr>
                                                    <p:cNvPr id="444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6659640" y="4293720"/>
                                                      <a:ext cx="718920" cy="27648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noFill/>
                                                    <a:ln w="0">
                                                      <a:noFill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spAutoFit/>
                                                    </a:bodyPr>
                                                    <a:p>
                                                      <a:pPr algn="ctr">
                                                        <a:lnSpc>
                                                          <a:spcPct val="100000"/>
                                                        </a:lnSpc>
                                                        <a:tabLst>
                                                          <a:tab algn="l" pos="0"/>
                                                          <a:tab algn="l" pos="914400"/>
                                                          <a:tab algn="l" pos="1828800"/>
                                                          <a:tab algn="l" pos="2743200"/>
                                                          <a:tab algn="l" pos="3657600"/>
                                                          <a:tab algn="l" pos="4572000"/>
                                                          <a:tab algn="l" pos="5486400"/>
                                                          <a:tab algn="l" pos="6400800"/>
                                                          <a:tab algn="l" pos="7315200"/>
                                                          <a:tab algn="l" pos="8229600"/>
                                                          <a:tab algn="l" pos="9144000"/>
                                                          <a:tab algn="l" pos="10058400"/>
                                                        </a:tabLst>
                                                      </a:pPr>
                                                      <a:r>
                                                        <a:rPr b="1" lang="en-US" sz="1200" spc="-1" strike="noStrike" u="sng">
                                                          <a:solidFill>
                                                            <a:srgbClr val="ffffff"/>
                                                          </a:solidFill>
                                                          <a:uFillTx/>
                                                          <a:latin typeface="Times New Roman"/>
                                                        </a:rPr>
                                                        <a:t>№</a:t>
                                                      </a:r>
                                                      <a:r>
                                                        <a:rPr b="1" lang="en-US" sz="1200" spc="-1" strike="noStrike" u="sng">
                                                          <a:solidFill>
                                                            <a:srgbClr val="ffffff"/>
                                                          </a:solidFill>
                                                          <a:uFillTx/>
                                                          <a:latin typeface="Times New Roman"/>
                                                        </a:rPr>
                                                        <a:t>9/1П</a:t>
                                                      </a:r>
                                                      <a:endParaRPr b="0" lang="en-US" sz="1200" spc="-1" strike="noStrike">
                                                        <a:solidFill>
                                                          <a:srgbClr val="ffffff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445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V="1">
                                                      <a:off x="7236000" y="4293720"/>
                                                      <a:ext cx="144360" cy="21600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9360">
                                                      <a:solidFill>
                                                        <a:srgbClr val="ffffff"/>
                                                      </a:solidFill>
                                                      <a:miter/>
                                                      <a:tailEnd len="med" type="triangle" w="med"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ffffff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  <p:sp>
                                                <p:nvSpPr>
                                                  <p:cNvPr id="446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5292720" y="3789000"/>
                                                    <a:ext cx="1008000" cy="246240"/>
                                                  </a:xfrm>
                                                  <a:prstGeom prst="rect">
                                                    <a:avLst/>
                                                  </a:prstGeom>
                                                  <a:noFill/>
                                                  <a:ln w="0">
                                                    <a:noFill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46800" bIns="46800" anchor="t">
                                                    <a:spAutoFit/>
                                                  </a:bodyPr>
                                                  <a:p>
                                                    <a:pPr algn="ctr">
                                                      <a:lnSpc>
                                                        <a:spcPct val="100000"/>
                                                      </a:lnSpc>
                                                      <a:tabLst>
                                                        <a:tab algn="l" pos="0"/>
                                                        <a:tab algn="l" pos="914400"/>
                                                        <a:tab algn="l" pos="1828800"/>
                                                        <a:tab algn="l" pos="2743200"/>
                                                        <a:tab algn="l" pos="3657600"/>
                                                        <a:tab algn="l" pos="4572000"/>
                                                        <a:tab algn="l" pos="5486400"/>
                                                        <a:tab algn="l" pos="6400800"/>
                                                        <a:tab algn="l" pos="7315200"/>
                                                        <a:tab algn="l" pos="8229600"/>
                                                        <a:tab algn="l" pos="9144000"/>
                                                        <a:tab algn="l" pos="10058400"/>
                                                      </a:tabLst>
                                                    </a:pPr>
                                                    <a:r>
                                                      <a:rPr b="0" lang="en-US" sz="1000" spc="-1" strike="noStrike">
                                                        <a:solidFill>
                                                          <a:srgbClr val="ffffff"/>
                                                        </a:solidFill>
                                                        <a:latin typeface="Times New Roman"/>
                                                      </a:rPr>
                                                      <a:t>Придорожный</a:t>
                                                    </a:r>
                                                    <a:endParaRPr b="0" lang="en-US" sz="1000" spc="-1" strike="noStrike">
                                                      <a:solidFill>
                                                        <a:srgbClr val="ffffff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447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5940360" y="4436640"/>
                                                  <a:ext cx="1079640" cy="246240"/>
                                                </a:xfrm>
                                                <a:prstGeom prst="rect">
                                                  <a:avLst/>
                                                </a:prstGeom>
                                                <a:noFill/>
                                                <a:ln w="0">
                                                  <a:noFill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spAutoFit/>
                                                </a:bodyPr>
                                                <a:p>
                                                  <a:pPr algn="ctr">
                                                    <a:lnSpc>
                                                      <a:spcPct val="100000"/>
                                                    </a:lnSpc>
                                                    <a:tabLst>
                                                      <a:tab algn="l" pos="0"/>
                                                      <a:tab algn="l" pos="914400"/>
                                                      <a:tab algn="l" pos="1828800"/>
                                                      <a:tab algn="l" pos="2743200"/>
                                                      <a:tab algn="l" pos="3657600"/>
                                                      <a:tab algn="l" pos="4572000"/>
                                                      <a:tab algn="l" pos="5486400"/>
                                                      <a:tab algn="l" pos="6400800"/>
                                                      <a:tab algn="l" pos="7315200"/>
                                                      <a:tab algn="l" pos="8229600"/>
                                                      <a:tab algn="l" pos="9144000"/>
                                                      <a:tab algn="l" pos="10058400"/>
                                                    </a:tabLst>
                                                  </a:pPr>
                                                  <a:r>
                                                    <a:rPr b="0" lang="en-US" sz="1000" spc="-1" strike="noStrike">
                                                      <a:solidFill>
                                                        <a:srgbClr val="ffffff"/>
                                                      </a:solidFill>
                                                      <a:latin typeface="Times New Roman"/>
                                                    </a:rPr>
                                                    <a:t>Дубовый Умет</a:t>
                                                  </a:r>
                                                  <a:endParaRPr b="0" lang="en-US" sz="1000" spc="-1" strike="noStrike">
                                                    <a:solidFill>
                                                      <a:srgbClr val="ffffff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sp>
                                            <p:nvSpPr>
                                              <p:cNvPr id="448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751280" y="4005000"/>
                                                <a:ext cx="1100160" cy="2462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noFill/>
                                              <a:ln w="0">
                                                <a:noFill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spAutoFit/>
                                              </a:bodyPr>
                                              <a:p>
                                                <a:pPr algn="ctr">
                                                  <a:lnSpc>
                                                    <a:spcPct val="100000"/>
                                                  </a:lnSpc>
                                                  <a:tabLst>
                                                    <a:tab algn="l" pos="0"/>
                                                    <a:tab algn="l" pos="914400"/>
                                                    <a:tab algn="l" pos="1828800"/>
                                                    <a:tab algn="l" pos="2743200"/>
                                                    <a:tab algn="l" pos="3657600"/>
                                                    <a:tab algn="l" pos="4572000"/>
                                                    <a:tab algn="l" pos="5486400"/>
                                                    <a:tab algn="l" pos="6400800"/>
                                                    <a:tab algn="l" pos="7315200"/>
                                                    <a:tab algn="l" pos="8229600"/>
                                                    <a:tab algn="l" pos="9144000"/>
                                                    <a:tab algn="l" pos="10058400"/>
                                                  </a:tabLst>
                                                </a:pPr>
                                                <a:r>
                                                  <a:rPr b="0" lang="en-US" sz="1000" spc="-1" strike="noStrike">
                                                    <a:solidFill>
                                                      <a:srgbClr val="ffffff"/>
                                                    </a:solidFill>
                                                    <a:latin typeface="Times New Roman"/>
                                                  </a:rPr>
                                                  <a:t>Воскресенка</a:t>
                                                </a:r>
                                                <a:endParaRPr b="0" lang="en-US" sz="1000" spc="-1" strike="noStrike">
                                                  <a:solidFill>
                                                    <a:srgbClr val="ffffff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449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822560" y="4221000"/>
                                              <a:ext cx="720720" cy="24624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noFill/>
                                            <a:ln w="0">
                                              <a:noFill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spAutoFit/>
                                            </a:bodyPr>
                                            <a:p>
                                              <a:pPr algn="ctr">
                                                <a:lnSpc>
                                                  <a:spcPct val="100000"/>
                                                </a:lnSpc>
                                                <a:tabLst>
                                                  <a:tab algn="l" pos="0"/>
                                                  <a:tab algn="l" pos="914400"/>
                                                  <a:tab algn="l" pos="1828800"/>
                                                  <a:tab algn="l" pos="2743200"/>
                                                  <a:tab algn="l" pos="3657600"/>
                                                  <a:tab algn="l" pos="4572000"/>
                                                  <a:tab algn="l" pos="5486400"/>
                                                  <a:tab algn="l" pos="6400800"/>
                                                  <a:tab algn="l" pos="7315200"/>
                                                  <a:tab algn="l" pos="8229600"/>
                                                  <a:tab algn="l" pos="9144000"/>
                                                  <a:tab algn="l" pos="10058400"/>
                                                </a:tabLst>
                                              </a:pPr>
                                              <a:r>
                                                <a:rPr b="0" lang="en-US" sz="1000" spc="-1" strike="noStrike">
                                                  <a:solidFill>
                                                    <a:srgbClr val="ffffff"/>
                                                  </a:solidFill>
                                                  <a:latin typeface="Times New Roman"/>
                                                </a:rPr>
                                                <a:t>Журавли</a:t>
                                              </a:r>
                                              <a:endParaRPr b="0" lang="en-US" sz="1000" spc="-1" strike="noStrike">
                                                <a:solidFill>
                                                  <a:srgbClr val="ffffff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sp>
                                        <p:nvSpPr>
                                          <p:cNvPr id="450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111640" y="4654080"/>
                                            <a:ext cx="790560" cy="24624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noFill/>
                                          <a:ln w="0">
                                            <a:noFill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spAutoFit/>
                                          </a:bodyPr>
                                          <a:p>
                                            <a:pPr algn="ctr">
                                              <a:lnSpc>
                                                <a:spcPct val="100000"/>
                                              </a:lnSpc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r>
                                              <a:rPr b="0" lang="en-US" sz="1000" spc="-1" strike="noStrike">
                                                <a:solidFill>
                                                  <a:srgbClr val="ffffff"/>
                                                </a:solidFill>
                                                <a:latin typeface="Times New Roman"/>
                                              </a:rPr>
                                              <a:t>Колывань</a:t>
                                            </a:r>
                                            <a:endParaRPr b="0" lang="en-US" sz="1000" spc="-1" strike="noStrike">
                                              <a:solidFill>
                                                <a:srgbClr val="ffffff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451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046560" y="3357360"/>
                                          <a:ext cx="433440" cy="431640"/>
                                        </a:xfrm>
                                        <a:prstGeom prst="line">
                                          <a:avLst/>
                                        </a:prstGeom>
                                        <a:ln w="28440">
                                          <a:solidFill>
                                            <a:srgbClr val="660066"/>
                                          </a:solidFill>
                                          <a:miter/>
                                          <a:tailEnd len="med" type="triangle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ffffff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452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480000" y="3789000"/>
                                          <a:ext cx="432000" cy="289080"/>
                                        </a:xfrm>
                                        <a:prstGeom prst="line">
                                          <a:avLst/>
                                        </a:prstGeom>
                                        <a:ln w="28440">
                                          <a:solidFill>
                                            <a:srgbClr val="660066"/>
                                          </a:solidFill>
                                          <a:miter/>
                                          <a:tailEnd len="med" type="triangle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ffffff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453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5688000" y="4005000"/>
                                        <a:ext cx="595080" cy="27648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sp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1" lang="en-US" sz="1200" spc="-1" strike="noStrike" u="sng">
                                            <a:solidFill>
                                              <a:srgbClr val="ffffff"/>
                                            </a:solidFill>
                                            <a:uFillTx/>
                                            <a:latin typeface="Times New Roman"/>
                                          </a:rPr>
                                          <a:t>№</a:t>
                                        </a:r>
                                        <a:r>
                                          <a:rPr b="1" lang="en-US" sz="1200" spc="-1" strike="noStrike" u="sng">
                                            <a:solidFill>
                                              <a:srgbClr val="ffffff"/>
                                            </a:solidFill>
                                            <a:uFillTx/>
                                            <a:latin typeface="Times New Roman"/>
                                          </a:rPr>
                                          <a:t>9П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ffffff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454" name=""/>
                                      <p:cNvSpPr/>
                                      <p:nvPr/>
                                    </p:nvSpPr>
                                    <p:spPr>
                                      <a:xfrm flipV="1">
                                        <a:off x="6119640" y="3861720"/>
                                        <a:ext cx="432000" cy="35892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ffffff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ffffff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4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8000" y="4221000"/>
                                      <a:ext cx="668160" cy="2764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1200" spc="-1" strike="noStrike" u="sng">
                                          <a:solidFill>
                                            <a:srgbClr val="ffffff"/>
                                          </a:solidFill>
                                          <a:uFillTx/>
                                          <a:latin typeface="Times New Roman"/>
                                        </a:rPr>
                                        <a:t>№</a:t>
                                      </a:r>
                                      <a:r>
                                        <a:rPr b="1" lang="en-US" sz="1200" spc="-1" strike="noStrike" u="sng">
                                          <a:solidFill>
                                            <a:srgbClr val="ffffff"/>
                                          </a:solidFill>
                                          <a:uFillTx/>
                                          <a:latin typeface="Times New Roman"/>
                                        </a:rPr>
                                        <a:t>8П</a:t>
                                      </a:r>
                                      <a:endParaRPr b="0" lang="en-US" sz="1200" spc="-1" strike="noStrike">
                                        <a:solidFill>
                                          <a:srgbClr val="ffffff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6" name=""/>
                                    <p:cNvSpPr/>
                                    <p:nvPr/>
                                  </p:nvSpPr>
                                  <p:spPr>
                                    <a:xfrm flipV="1">
                                      <a:off x="6191280" y="4220640"/>
                                      <a:ext cx="215640" cy="21564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ffffff"/>
                                      </a:solidFill>
                                      <a:miter/>
                                      <a:tailEnd len="med" type="triangle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ffffff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457" name=""/>
                                  <p:cNvSpPr/>
                                  <p:nvPr/>
                                </p:nvSpPr>
                                <p:spPr>
                                  <a:xfrm>
                                    <a:off x="5038560" y="4436640"/>
                                    <a:ext cx="647640" cy="2764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1200" spc="-1" strike="noStrike">
                                        <a:solidFill>
                                          <a:srgbClr val="ffffff"/>
                                        </a:solidFill>
                                        <a:latin typeface="Times New Roman"/>
                                      </a:rPr>
                                      <a:t>№</a:t>
                                    </a:r>
                                    <a:r>
                                      <a:rPr b="1" lang="en-US" sz="1200" spc="-1" strike="noStrike">
                                        <a:solidFill>
                                          <a:srgbClr val="ffffff"/>
                                        </a:solidFill>
                                        <a:latin typeface="Times New Roman"/>
                                      </a:rPr>
                                      <a:t>7П</a:t>
                                    </a:r>
                                    <a:endParaRPr b="0" lang="en-US" sz="1200" spc="-1" strike="noStrike">
                                      <a:solidFill>
                                        <a:srgbClr val="ffffff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58" name=""/>
                                  <p:cNvSpPr/>
                                  <p:nvPr/>
                                </p:nvSpPr>
                                <p:spPr>
                                  <a:xfrm flipH="1">
                                    <a:off x="5038560" y="4654080"/>
                                    <a:ext cx="50472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ffffff"/>
                                    </a:solidFill>
                                    <a:miter/>
                                    <a:tailEnd len="med" type="triangle" w="med"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ffffff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459" name=""/>
                                <p:cNvSpPr/>
                                <p:nvPr/>
                              </p:nvSpPr>
                              <p:spPr>
                                <a:xfrm>
                                  <a:off x="3671640" y="3646080"/>
                                  <a:ext cx="1656000" cy="3070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US" sz="1400" spc="-1" strike="noStrike">
                                      <a:solidFill>
                                        <a:srgbClr val="ffffff"/>
                                      </a:solidFill>
                                      <a:latin typeface="Times New Roman"/>
                                    </a:rPr>
                                    <a:t>Новокуйбышевск</a:t>
                                  </a:r>
                                  <a:endParaRPr b="0" lang="en-US" sz="14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460" name=""/>
                              <p:cNvSpPr/>
                              <p:nvPr/>
                            </p:nvSpPr>
                            <p:spPr>
                              <a:xfrm>
                                <a:off x="3022560" y="4005000"/>
                                <a:ext cx="1152360" cy="3070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1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rPr>
                                  <a:t>Чапаевск</a:t>
                                </a:r>
                                <a:endParaRPr b="0" lang="en-US" sz="14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61" name=""/>
                            <p:cNvSpPr/>
                            <p:nvPr/>
                          </p:nvSpPr>
                          <p:spPr>
                            <a:xfrm>
                              <a:off x="2303280" y="3862080"/>
                              <a:ext cx="1008000" cy="2764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Bef>
                                  <a:spcPts val="751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2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rPr>
                                <a:t>Безенчук</a:t>
                              </a:r>
                              <a:endParaRPr b="0" lang="en-US" sz="12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62" name=""/>
                          <p:cNvSpPr/>
                          <p:nvPr/>
                        </p:nvSpPr>
                        <p:spPr>
                          <a:xfrm>
                            <a:off x="3382920" y="4509720"/>
                            <a:ext cx="668160" cy="246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rPr>
                              <a:t>Прибой</a:t>
                            </a:r>
                            <a:endParaRPr b="0" lang="en-US" sz="1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3" name=""/>
                        <p:cNvSpPr/>
                        <p:nvPr/>
                      </p:nvSpPr>
                      <p:spPr>
                        <a:xfrm>
                          <a:off x="2806560" y="4725720"/>
                          <a:ext cx="812880" cy="24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000" spc="-1" strike="noStrike">
                              <a:solidFill>
                                <a:srgbClr val="ffffff"/>
                              </a:solidFill>
                              <a:latin typeface="Times New Roman"/>
                            </a:rPr>
                            <a:t>Осинки</a:t>
                          </a:r>
                          <a:endPara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4" name=""/>
                      <p:cNvSpPr/>
                      <p:nvPr/>
                    </p:nvSpPr>
                    <p:spPr>
                      <a:xfrm>
                        <a:off x="3671640" y="4654080"/>
                        <a:ext cx="73980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ffffff"/>
                            </a:solidFill>
                            <a:uFillTx/>
                            <a:latin typeface="Times New Roman"/>
                          </a:rPr>
                          <a:t>№</a:t>
                        </a:r>
                        <a:r>
                          <a:rPr b="1" lang="en-US" sz="1200" spc="-1" strike="noStrike" u="sng">
                            <a:solidFill>
                              <a:srgbClr val="ffffff"/>
                            </a:solidFill>
                            <a:uFillTx/>
                            <a:latin typeface="Times New Roman"/>
                          </a:rPr>
                          <a:t>7/2П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"/>
                      <p:cNvSpPr/>
                      <p:nvPr/>
                    </p:nvSpPr>
                    <p:spPr>
                      <a:xfrm flipV="1">
                        <a:off x="4246560" y="4654080"/>
                        <a:ext cx="288720" cy="21600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3759120" y="5003640"/>
                      <a:ext cx="84780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№</a:t>
                      </a: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35/1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H="1" flipV="1">
                      <a:off x="3382560" y="4725720"/>
                      <a:ext cx="576360" cy="5032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68" name=""/>
                <p:cNvSpPr/>
                <p:nvPr/>
              </p:nvSpPr>
              <p:spPr>
                <a:xfrm>
                  <a:off x="2087280" y="4220640"/>
                  <a:ext cx="792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№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35/2П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230200" y="4436640"/>
                  <a:ext cx="7923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>
                <a:off x="1908000" y="5229000"/>
                <a:ext cx="6985080" cy="142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Наименование маршрутов пешей эвакуации: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7п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Самара- Колывань-36км               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7/2п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Н.куйбышевск- Кам. Брод-28км   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29п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Тольятти- В. Санчелеево-35км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8п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Самара-Д Умет-28км                    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28п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Сызрань- Троицкое-36км                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31п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Тольятти- Ягодное-30км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9п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Самара- п.Просвет-30км               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17п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Сызрань- Балашейка-32км             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32п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Тольятти- Узюково-25км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9/1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Самара- Домашка-59км               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20п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Сызрань- Репьевка-35км                 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33п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Тольятти- Поволжский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12п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Самара- Тургеневка-45км           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21п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Сызрань- Возрождение-73км         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36п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Кинель- Мал.Малышевка-38км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14п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Самара- Курумоч-40км               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26п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Сызрань- Шигоны-38км                  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36/1п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Кинель- Красносамарское-22км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15/1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Самара- Водино-28км                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35/1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Чапаевск- Осинки -                         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40п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Кинель- Домашка-40км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15/2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Самара- Белозерки-32км           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№35/2-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Чапаевск- Безенчук-45км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7524720" y="18900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FDA-44F3-4EAE-AE15-1A7DBCBE5F03}" type="slidenum">
              <a:t>1</a:t>
            </a:fld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9:16:26Z</dcterms:created>
  <dc:creator>ГУ ГОЧС</dc:creator>
  <dc:description/>
  <dc:language>en-US</dc:language>
  <cp:lastModifiedBy>Alifanov</cp:lastModifiedBy>
  <dcterms:modified xsi:type="dcterms:W3CDTF">2012-07-25T13:17:41Z</dcterms:modified>
  <cp:revision>148</cp:revision>
  <dc:subject/>
  <dc:title>Проведение эвакуационных мероприятий в Самарской области</dc:title>
</cp:coreProperties>
</file>